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Page </a:t>
            </a:r>
            <a:fld id="{DDA08B97-8F19-4F18-B546-8192253C62B6}" type="slidenum">
              <a:rPr b="0" lang="en-US" sz="11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52120" y="4647960"/>
            <a:ext cx="4684680" cy="3376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035000" y="655560"/>
            <a:ext cx="4319640" cy="32418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0240" y="4284360"/>
            <a:ext cx="4233960" cy="33764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035000" y="655560"/>
            <a:ext cx="4319640" cy="3241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020240" y="4284360"/>
            <a:ext cx="4233960" cy="33764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619440" y="8240760"/>
            <a:ext cx="2768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628-7FC3-4384-A6C7-0F145199E554}" type="slidenum">
              <a:rPr b="0" lang="en-US" sz="2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52120" y="4647960"/>
            <a:ext cx="4684680" cy="33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619440" y="8240760"/>
            <a:ext cx="2768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032C-69A7-4F0D-B8BF-AAC280E89A14}" type="slidenum">
              <a:rPr b="0" lang="en-US" sz="2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52120" y="4647960"/>
            <a:ext cx="4684680" cy="33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54B26A47-81AD-433D-8C13-12B75604CA3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11E6C44D-390D-406D-B6C3-760B913EA48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025640" y="1752480"/>
            <a:ext cx="655308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Introducing PSP and TSP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Commitment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1001880" y="1767960"/>
            <a:ext cx="6486480" cy="4789080"/>
            <a:chOff x="1001880" y="1767960"/>
            <a:chExt cx="6486480" cy="4789080"/>
          </a:xfrm>
        </p:grpSpPr>
        <p:sp>
          <p:nvSpPr>
            <p:cNvPr id="117" name="Arc 4"/>
            <p:cNvSpPr/>
            <p:nvPr/>
          </p:nvSpPr>
          <p:spPr>
            <a:xfrm>
              <a:off x="1824480" y="3600000"/>
              <a:ext cx="2879640" cy="18734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fill="none" w="21612" h="21600">
                  <a:moveTo>
                    <a:pt x="21612" y="0"/>
                  </a:moveTo>
                  <a:cubicBezTo>
                    <a:pt x="21612" y="11929"/>
                    <a:pt x="11941" y="21600"/>
                    <a:pt x="12" y="21600"/>
                  </a:cubicBezTo>
                  <a:cubicBezTo>
                    <a:pt x="8" y="21600"/>
                    <a:pt x="4" y="21599"/>
                    <a:pt x="0" y="21599"/>
                  </a:cubicBezTo>
                </a:path>
                <a:path stroke="0" w="21612" h="21600">
                  <a:moveTo>
                    <a:pt x="21612" y="0"/>
                  </a:moveTo>
                  <a:cubicBezTo>
                    <a:pt x="21612" y="11929"/>
                    <a:pt x="11941" y="21600"/>
                    <a:pt x="12" y="21600"/>
                  </a:cubicBezTo>
                  <a:cubicBezTo>
                    <a:pt x="8" y="21600"/>
                    <a:pt x="4" y="21599"/>
                    <a:pt x="0" y="21599"/>
                  </a:cubicBezTo>
                  <a:lnTo>
                    <a:pt x="12" y="0"/>
                  </a:lnTo>
                  <a:lnTo>
                    <a:pt x="21612" y="0"/>
                  </a:lnTo>
                  <a:close/>
                </a:path>
              </a:pathLst>
            </a:custGeom>
            <a:noFill/>
            <a:ln cap="rnd" w="2556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Arc 5"/>
            <p:cNvSpPr/>
            <p:nvPr/>
          </p:nvSpPr>
          <p:spPr>
            <a:xfrm>
              <a:off x="4672440" y="2016000"/>
              <a:ext cx="2806560" cy="1658880"/>
            </a:xfrm>
            <a:custGeom>
              <a:avLst/>
              <a:gdLst>
                <a:gd name="textAreaLeft" fmla="*/ 0 w 2806560"/>
                <a:gd name="textAreaRight" fmla="*/ 2806920 w 2806560"/>
                <a:gd name="textAreaTop" fmla="*/ 0 h 1658880"/>
                <a:gd name="textAreaBottom" fmla="*/ 1659240 h 1658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9"/>
                  </a:moveTo>
                  <a:cubicBezTo>
                    <a:pt x="11" y="9662"/>
                    <a:pt x="9671" y="6"/>
                    <a:pt x="21588" y="0"/>
                  </a:cubicBezTo>
                </a:path>
                <a:path stroke="0" w="21600" h="21600">
                  <a:moveTo>
                    <a:pt x="0" y="21579"/>
                  </a:moveTo>
                  <a:cubicBezTo>
                    <a:pt x="11" y="9662"/>
                    <a:pt x="9671" y="6"/>
                    <a:pt x="21588" y="0"/>
                  </a:cubicBezTo>
                  <a:lnTo>
                    <a:pt x="21600" y="21600"/>
                  </a:lnTo>
                  <a:lnTo>
                    <a:pt x="0" y="21579"/>
                  </a:lnTo>
                  <a:close/>
                </a:path>
              </a:pathLst>
            </a:custGeom>
            <a:noFill/>
            <a:ln cap="rnd" w="2556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1395720" y="1768320"/>
              <a:ext cx="0" cy="394956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1395720" y="5706720"/>
              <a:ext cx="6092640" cy="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 rot="16200000">
              <a:off x="330120" y="4030560"/>
              <a:ext cx="1631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9536b"/>
                  </a:solidFill>
                  <a:latin typeface="Arial"/>
                </a:rPr>
                <a:t>Commitment</a:t>
              </a:r>
              <a:endParaRPr b="0" lang="en-US" sz="2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3552480" y="5775120"/>
              <a:ext cx="623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9536b"/>
                  </a:solidFill>
                  <a:latin typeface="Arial"/>
                </a:rPr>
                <a:t>Time</a:t>
              </a:r>
              <a:endParaRPr b="0" lang="en-US" sz="2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V="1">
              <a:off x="1124280" y="1767960"/>
              <a:ext cx="0" cy="156204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>
              <a:off x="4221360" y="5945040"/>
              <a:ext cx="1684440" cy="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4293000" y="2041200"/>
              <a:ext cx="1902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itutionaliz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3792600" y="2912760"/>
              <a:ext cx="10022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Adop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3611160" y="3533400"/>
              <a:ext cx="9716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rial Us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>
              <a:off x="2854440" y="4167000"/>
              <a:ext cx="15433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Understand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2626560" y="4755960"/>
              <a:ext cx="118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Awarenes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Rectangle 17"/>
            <p:cNvSpPr/>
            <p:nvPr/>
          </p:nvSpPr>
          <p:spPr>
            <a:xfrm>
              <a:off x="1463400" y="5130360"/>
              <a:ext cx="867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ontac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Oval 18"/>
            <p:cNvSpPr/>
            <p:nvPr/>
          </p:nvSpPr>
          <p:spPr>
            <a:xfrm>
              <a:off x="1768680" y="5391000"/>
              <a:ext cx="123840" cy="12384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Oval 19"/>
            <p:cNvSpPr/>
            <p:nvPr/>
          </p:nvSpPr>
          <p:spPr>
            <a:xfrm>
              <a:off x="6347160" y="2085840"/>
              <a:ext cx="123840" cy="12528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Oval 20"/>
            <p:cNvSpPr/>
            <p:nvPr/>
          </p:nvSpPr>
          <p:spPr>
            <a:xfrm>
              <a:off x="4842000" y="2968200"/>
              <a:ext cx="125640" cy="12384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Oval 21"/>
            <p:cNvSpPr/>
            <p:nvPr/>
          </p:nvSpPr>
          <p:spPr>
            <a:xfrm>
              <a:off x="4605480" y="3579480"/>
              <a:ext cx="123840" cy="12384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Oval 22"/>
            <p:cNvSpPr/>
            <p:nvPr/>
          </p:nvSpPr>
          <p:spPr>
            <a:xfrm>
              <a:off x="4435920" y="4213080"/>
              <a:ext cx="123840" cy="12384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Oval 23"/>
            <p:cNvSpPr/>
            <p:nvPr/>
          </p:nvSpPr>
          <p:spPr>
            <a:xfrm>
              <a:off x="3859560" y="4800240"/>
              <a:ext cx="123840" cy="127080"/>
            </a:xfrm>
            <a:prstGeom prst="ellipse">
              <a:avLst/>
            </a:prstGeom>
            <a:solidFill>
              <a:srgbClr val="87a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7" name="Rectangle 24"/>
            <p:cNvSpPr/>
            <p:nvPr/>
          </p:nvSpPr>
          <p:spPr>
            <a:xfrm>
              <a:off x="1053360" y="6349680"/>
              <a:ext cx="14547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Source: [Conner 82]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tegories of Adop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597560" y="4414680"/>
            <a:ext cx="396396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54480" y="6135840"/>
            <a:ext cx="1517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Source: [Rogers 83]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5394240" y="3367080"/>
            <a:ext cx="1596960" cy="145728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006" h="918">
                <a:moveTo>
                  <a:pt x="630" y="797"/>
                </a:moveTo>
                <a:lnTo>
                  <a:pt x="726" y="845"/>
                </a:lnTo>
                <a:lnTo>
                  <a:pt x="822" y="877"/>
                </a:lnTo>
                <a:lnTo>
                  <a:pt x="894" y="893"/>
                </a:lnTo>
                <a:lnTo>
                  <a:pt x="1005" y="917"/>
                </a:lnTo>
                <a:lnTo>
                  <a:pt x="0" y="917"/>
                </a:lnTo>
                <a:lnTo>
                  <a:pt x="0" y="0"/>
                </a:lnTo>
                <a:lnTo>
                  <a:pt x="80" y="175"/>
                </a:lnTo>
                <a:lnTo>
                  <a:pt x="144" y="279"/>
                </a:lnTo>
                <a:lnTo>
                  <a:pt x="232" y="414"/>
                </a:lnTo>
                <a:lnTo>
                  <a:pt x="311" y="518"/>
                </a:lnTo>
                <a:lnTo>
                  <a:pt x="399" y="614"/>
                </a:lnTo>
                <a:lnTo>
                  <a:pt x="471" y="678"/>
                </a:lnTo>
                <a:lnTo>
                  <a:pt x="535" y="733"/>
                </a:lnTo>
                <a:lnTo>
                  <a:pt x="599" y="781"/>
                </a:lnTo>
                <a:lnTo>
                  <a:pt x="630" y="797"/>
                </a:lnTo>
              </a:path>
            </a:pathLst>
          </a:custGeom>
          <a:solidFill>
            <a:srgbClr val="cc00cc"/>
          </a:solidFill>
          <a:ln cap="rnd"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457880" y="1604880"/>
            <a:ext cx="925200" cy="3219480"/>
          </a:xfrm>
          <a:custGeom>
            <a:avLst/>
            <a:gdLst>
              <a:gd name="textAreaLeft" fmla="*/ 0 w 925200"/>
              <a:gd name="textAreaRight" fmla="*/ 925560 w 92520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583" h="2028">
                <a:moveTo>
                  <a:pt x="0" y="0"/>
                </a:moveTo>
                <a:lnTo>
                  <a:pt x="64" y="16"/>
                </a:lnTo>
                <a:lnTo>
                  <a:pt x="128" y="64"/>
                </a:lnTo>
                <a:lnTo>
                  <a:pt x="183" y="136"/>
                </a:lnTo>
                <a:lnTo>
                  <a:pt x="247" y="239"/>
                </a:lnTo>
                <a:lnTo>
                  <a:pt x="327" y="423"/>
                </a:lnTo>
                <a:lnTo>
                  <a:pt x="391" y="614"/>
                </a:lnTo>
                <a:lnTo>
                  <a:pt x="487" y="893"/>
                </a:lnTo>
                <a:lnTo>
                  <a:pt x="526" y="981"/>
                </a:lnTo>
                <a:lnTo>
                  <a:pt x="582" y="1117"/>
                </a:lnTo>
                <a:lnTo>
                  <a:pt x="582" y="2027"/>
                </a:lnTo>
                <a:lnTo>
                  <a:pt x="0" y="2027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69040" y="5186520"/>
            <a:ext cx="1020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Innovator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387880" y="5508720"/>
            <a:ext cx="1356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arly Adopter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363120" y="5186520"/>
            <a:ext cx="1267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arly Major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307040" y="5508720"/>
            <a:ext cx="1207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Late Major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470560" y="5186520"/>
            <a:ext cx="928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Laggard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065400" y="4873680"/>
            <a:ext cx="0" cy="596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989520" y="4873680"/>
            <a:ext cx="0" cy="3556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4913280" y="4873680"/>
            <a:ext cx="0" cy="596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5938920" y="4873680"/>
            <a:ext cx="0" cy="3556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Freeform 17"/>
          <p:cNvSpPr/>
          <p:nvPr/>
        </p:nvSpPr>
        <p:spPr>
          <a:xfrm>
            <a:off x="2643120" y="3392640"/>
            <a:ext cx="889200" cy="1431720"/>
          </a:xfrm>
          <a:custGeom>
            <a:avLst/>
            <a:gdLst>
              <a:gd name="textAreaLeft" fmla="*/ 0 w 889200"/>
              <a:gd name="textAreaRight" fmla="*/ 889560 w 889200"/>
              <a:gd name="textAreaTop" fmla="*/ 0 h 1431720"/>
              <a:gd name="textAreaBottom" fmla="*/ 1432080 h 1431720"/>
            </a:gdLst>
            <a:ahLst/>
            <a:rect l="textAreaLeft" t="textAreaTop" r="textAreaRight" b="textAreaBottom"/>
            <a:pathLst>
              <a:path w="560" h="902">
                <a:moveTo>
                  <a:pt x="0" y="901"/>
                </a:moveTo>
                <a:lnTo>
                  <a:pt x="559" y="901"/>
                </a:lnTo>
                <a:lnTo>
                  <a:pt x="559" y="0"/>
                </a:lnTo>
                <a:lnTo>
                  <a:pt x="479" y="159"/>
                </a:lnTo>
                <a:lnTo>
                  <a:pt x="415" y="263"/>
                </a:lnTo>
                <a:lnTo>
                  <a:pt x="327" y="398"/>
                </a:lnTo>
                <a:lnTo>
                  <a:pt x="248" y="502"/>
                </a:lnTo>
                <a:lnTo>
                  <a:pt x="160" y="598"/>
                </a:lnTo>
                <a:lnTo>
                  <a:pt x="96" y="662"/>
                </a:lnTo>
                <a:lnTo>
                  <a:pt x="0" y="741"/>
                </a:lnTo>
                <a:lnTo>
                  <a:pt x="0" y="901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3535200" y="1604880"/>
            <a:ext cx="925560" cy="3219480"/>
          </a:xfrm>
          <a:custGeom>
            <a:avLst/>
            <a:gdLst>
              <a:gd name="textAreaLeft" fmla="*/ 0 w 925560"/>
              <a:gd name="textAreaRight" fmla="*/ 925920 w 92556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583" h="2028">
                <a:moveTo>
                  <a:pt x="582" y="0"/>
                </a:moveTo>
                <a:lnTo>
                  <a:pt x="518" y="16"/>
                </a:lnTo>
                <a:lnTo>
                  <a:pt x="454" y="64"/>
                </a:lnTo>
                <a:lnTo>
                  <a:pt x="399" y="136"/>
                </a:lnTo>
                <a:lnTo>
                  <a:pt x="335" y="239"/>
                </a:lnTo>
                <a:lnTo>
                  <a:pt x="255" y="423"/>
                </a:lnTo>
                <a:lnTo>
                  <a:pt x="191" y="614"/>
                </a:lnTo>
                <a:lnTo>
                  <a:pt x="95" y="893"/>
                </a:lnTo>
                <a:lnTo>
                  <a:pt x="56" y="981"/>
                </a:lnTo>
                <a:lnTo>
                  <a:pt x="0" y="1117"/>
                </a:lnTo>
                <a:lnTo>
                  <a:pt x="0" y="2027"/>
                </a:lnTo>
                <a:lnTo>
                  <a:pt x="582" y="2027"/>
                </a:lnTo>
                <a:lnTo>
                  <a:pt x="582" y="0"/>
                </a:lnTo>
              </a:path>
            </a:pathLst>
          </a:custGeom>
          <a:solidFill>
            <a:srgbClr val="cc99ff"/>
          </a:solidFill>
          <a:ln cap="rnd"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Freeform 19"/>
          <p:cNvSpPr/>
          <p:nvPr/>
        </p:nvSpPr>
        <p:spPr>
          <a:xfrm>
            <a:off x="1973160" y="4572000"/>
            <a:ext cx="666720" cy="254160"/>
          </a:xfrm>
          <a:custGeom>
            <a:avLst/>
            <a:gdLst>
              <a:gd name="textAreaLeft" fmla="*/ 0 w 666720"/>
              <a:gd name="textAreaRight" fmla="*/ 667080 w 666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20" h="160">
                <a:moveTo>
                  <a:pt x="419" y="159"/>
                </a:moveTo>
                <a:lnTo>
                  <a:pt x="419" y="0"/>
                </a:lnTo>
                <a:lnTo>
                  <a:pt x="371" y="26"/>
                </a:lnTo>
                <a:lnTo>
                  <a:pt x="333" y="50"/>
                </a:lnTo>
                <a:lnTo>
                  <a:pt x="277" y="83"/>
                </a:lnTo>
                <a:lnTo>
                  <a:pt x="233" y="101"/>
                </a:lnTo>
                <a:lnTo>
                  <a:pt x="186" y="116"/>
                </a:lnTo>
                <a:lnTo>
                  <a:pt x="139" y="134"/>
                </a:lnTo>
                <a:lnTo>
                  <a:pt x="78" y="149"/>
                </a:lnTo>
                <a:lnTo>
                  <a:pt x="0" y="159"/>
                </a:lnTo>
                <a:lnTo>
                  <a:pt x="419" y="159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>
            <a:off x="2260440" y="4873680"/>
            <a:ext cx="0" cy="353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novat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22720" y="1709640"/>
            <a:ext cx="355464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enthusia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people to adopt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understand that the technology may b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bugg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that there might be glitch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692360" y="5076720"/>
            <a:ext cx="5499000" cy="97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3405240" y="2855880"/>
            <a:ext cx="1114200" cy="101268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Freeform 7"/>
          <p:cNvSpPr/>
          <p:nvPr/>
        </p:nvSpPr>
        <p:spPr>
          <a:xfrm>
            <a:off x="2760840" y="1616040"/>
            <a:ext cx="645840" cy="2252520"/>
          </a:xfrm>
          <a:custGeom>
            <a:avLst/>
            <a:gdLst>
              <a:gd name="textAreaLeft" fmla="*/ 0 w 645840"/>
              <a:gd name="textAreaRight" fmla="*/ 645840 w 64584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407" h="1419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8"/>
                </a:lnTo>
                <a:lnTo>
                  <a:pt x="0" y="1418"/>
                </a:lnTo>
                <a:lnTo>
                  <a:pt x="0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2116080" y="1616040"/>
            <a:ext cx="646200" cy="22525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407" h="1419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8"/>
                </a:lnTo>
                <a:lnTo>
                  <a:pt x="406" y="1418"/>
                </a:lnTo>
                <a:lnTo>
                  <a:pt x="406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1495440" y="286848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1015920" y="3691080"/>
            <a:ext cx="480960" cy="17748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87a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478320" y="5229360"/>
            <a:ext cx="3608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ors would be the first on the block to own an electric ca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900080" y="5200560"/>
            <a:ext cx="988920" cy="738360"/>
            <a:chOff x="1900080" y="5200560"/>
            <a:chExt cx="988920" cy="738360"/>
          </a:xfrm>
        </p:grpSpPr>
        <p:sp>
          <p:nvSpPr>
            <p:cNvPr id="166" name="AutoShape 13"/>
            <p:cNvSpPr/>
            <p:nvPr/>
          </p:nvSpPr>
          <p:spPr>
            <a:xfrm flipV="1">
              <a:off x="2003400" y="5208480"/>
              <a:ext cx="795240" cy="24768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680"/>
                <a:gd name="textAreaBottom" fmla="*/ 206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67" name="Group 14"/>
            <p:cNvGrpSpPr/>
            <p:nvPr/>
          </p:nvGrpSpPr>
          <p:grpSpPr>
            <a:xfrm>
              <a:off x="1903320" y="5457960"/>
              <a:ext cx="983160" cy="350640"/>
              <a:chOff x="1903320" y="5457960"/>
              <a:chExt cx="983160" cy="350640"/>
            </a:xfrm>
          </p:grpSpPr>
          <p:sp>
            <p:nvSpPr>
              <p:cNvPr id="168" name="Oval 15"/>
              <p:cNvSpPr/>
              <p:nvPr/>
            </p:nvSpPr>
            <p:spPr>
              <a:xfrm rot="360000">
                <a:off x="1920240" y="5463720"/>
                <a:ext cx="133560" cy="33840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9" name="Oval 16"/>
              <p:cNvSpPr/>
              <p:nvPr/>
            </p:nvSpPr>
            <p:spPr>
              <a:xfrm rot="21300000">
                <a:off x="2738160" y="5464080"/>
                <a:ext cx="133560" cy="33840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0" name="AutoShape 17"/>
              <p:cNvSpPr/>
              <p:nvPr/>
            </p:nvSpPr>
            <p:spPr>
              <a:xfrm flipV="1">
                <a:off x="1947600" y="5458680"/>
                <a:ext cx="893880" cy="34452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520"/>
                  <a:gd name="textAreaBottom" fmla="*/ 308160 h 34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18"/>
            <p:cNvGrpSpPr/>
            <p:nvPr/>
          </p:nvGrpSpPr>
          <p:grpSpPr>
            <a:xfrm>
              <a:off x="1900080" y="5200560"/>
              <a:ext cx="988920" cy="738360"/>
              <a:chOff x="1900080" y="5200560"/>
              <a:chExt cx="988920" cy="738360"/>
            </a:xfrm>
          </p:grpSpPr>
          <p:sp>
            <p:nvSpPr>
              <p:cNvPr id="172" name="Line 19"/>
              <p:cNvSpPr/>
              <p:nvPr/>
            </p:nvSpPr>
            <p:spPr>
              <a:xfrm>
                <a:off x="2681280" y="55040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173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0080" y="5200560"/>
                <a:ext cx="98892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0080" y="5580000"/>
                <a:ext cx="988920" cy="35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5" name="Group 22"/>
          <p:cNvGrpSpPr/>
          <p:nvPr/>
        </p:nvGrpSpPr>
        <p:grpSpPr>
          <a:xfrm>
            <a:off x="2886120" y="4800600"/>
            <a:ext cx="407880" cy="550800"/>
            <a:chOff x="2886120" y="4800600"/>
            <a:chExt cx="407880" cy="550800"/>
          </a:xfrm>
        </p:grpSpPr>
        <p:sp>
          <p:nvSpPr>
            <p:cNvPr id="176" name="Freeform 23"/>
            <p:cNvSpPr/>
            <p:nvPr/>
          </p:nvSpPr>
          <p:spPr>
            <a:xfrm>
              <a:off x="2931840" y="482760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77" name="Picture 24" descr=""/>
            <p:cNvPicPr/>
            <p:nvPr/>
          </p:nvPicPr>
          <p:blipFill>
            <a:blip r:embed="rId3"/>
            <a:stretch/>
          </p:blipFill>
          <p:spPr>
            <a:xfrm>
              <a:off x="2886120" y="480060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AutoShape 25"/>
          <p:cNvSpPr/>
          <p:nvPr/>
        </p:nvSpPr>
        <p:spPr>
          <a:xfrm>
            <a:off x="1073160" y="3911760"/>
            <a:ext cx="485640" cy="658800"/>
          </a:xfrm>
          <a:prstGeom prst="upArrow">
            <a:avLst>
              <a:gd name="adj1" fmla="val 50000"/>
              <a:gd name="adj2" fmla="val 33914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ly Adop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915080" y="1474920"/>
            <a:ext cx="390024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visionari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Unlike innovators, they are typically </a:t>
            </a:r>
            <a:r>
              <a:rPr b="1" i="1" lang="en-US" sz="2000" spc="-1" strike="noStrike">
                <a:solidFill>
                  <a:srgbClr val="39536b"/>
                </a:solidFill>
                <a:latin typeface="Arial"/>
              </a:rPr>
              <a:t>no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 technologis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y have the insight to match an emerging technology to a strategic opportun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743120" y="5095800"/>
            <a:ext cx="5842080" cy="978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406680" y="5261040"/>
            <a:ext cx="414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purchase an electric car because they can imagine the benefi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3438360" y="2855880"/>
            <a:ext cx="1114560" cy="10126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Freeform 8"/>
          <p:cNvSpPr/>
          <p:nvPr/>
        </p:nvSpPr>
        <p:spPr>
          <a:xfrm>
            <a:off x="2806560" y="1617840"/>
            <a:ext cx="646200" cy="22507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0720"/>
              <a:gd name="textAreaBottom" fmla="*/ 2251080 h 225072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Freeform 9"/>
          <p:cNvSpPr/>
          <p:nvPr/>
        </p:nvSpPr>
        <p:spPr>
          <a:xfrm>
            <a:off x="2162160" y="1617840"/>
            <a:ext cx="646200" cy="22507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0720"/>
              <a:gd name="textAreaBottom" fmla="*/ 2251080 h 225072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Freeform 10"/>
          <p:cNvSpPr/>
          <p:nvPr/>
        </p:nvSpPr>
        <p:spPr>
          <a:xfrm>
            <a:off x="1541520" y="2868480"/>
            <a:ext cx="622080" cy="987480"/>
          </a:xfrm>
          <a:custGeom>
            <a:avLst/>
            <a:gdLst>
              <a:gd name="textAreaLeft" fmla="*/ 0 w 622080"/>
              <a:gd name="textAreaRight" fmla="*/ 622440 w 622080"/>
              <a:gd name="textAreaTop" fmla="*/ 0 h 987480"/>
              <a:gd name="textAreaBottom" fmla="*/ 987480 h 9874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Freeform 11"/>
          <p:cNvSpPr/>
          <p:nvPr/>
        </p:nvSpPr>
        <p:spPr>
          <a:xfrm>
            <a:off x="1062000" y="3691080"/>
            <a:ext cx="480960" cy="17748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1906560" y="5186520"/>
            <a:ext cx="988920" cy="737640"/>
            <a:chOff x="1906560" y="5186520"/>
            <a:chExt cx="988920" cy="737640"/>
          </a:xfrm>
        </p:grpSpPr>
        <p:sp>
          <p:nvSpPr>
            <p:cNvPr id="189" name="AutoShape 13"/>
            <p:cNvSpPr/>
            <p:nvPr/>
          </p:nvSpPr>
          <p:spPr>
            <a:xfrm flipV="1">
              <a:off x="2009880" y="519336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90" name="Group 14"/>
            <p:cNvGrpSpPr/>
            <p:nvPr/>
          </p:nvGrpSpPr>
          <p:grpSpPr>
            <a:xfrm>
              <a:off x="1909800" y="5443200"/>
              <a:ext cx="982800" cy="350280"/>
              <a:chOff x="1909800" y="5443200"/>
              <a:chExt cx="982800" cy="350280"/>
            </a:xfrm>
          </p:grpSpPr>
          <p:sp>
            <p:nvSpPr>
              <p:cNvPr id="191" name="Oval 15"/>
              <p:cNvSpPr/>
              <p:nvPr/>
            </p:nvSpPr>
            <p:spPr>
              <a:xfrm rot="360000">
                <a:off x="1926720" y="5448960"/>
                <a:ext cx="133560" cy="33804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2" name="Oval 16"/>
              <p:cNvSpPr/>
              <p:nvPr/>
            </p:nvSpPr>
            <p:spPr>
              <a:xfrm rot="21300000">
                <a:off x="2744640" y="5449320"/>
                <a:ext cx="133560" cy="33804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3" name="AutoShape 17"/>
              <p:cNvSpPr/>
              <p:nvPr/>
            </p:nvSpPr>
            <p:spPr>
              <a:xfrm flipV="1">
                <a:off x="1954080" y="544500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8"/>
            <p:cNvGrpSpPr/>
            <p:nvPr/>
          </p:nvGrpSpPr>
          <p:grpSpPr>
            <a:xfrm>
              <a:off x="1906560" y="5186520"/>
              <a:ext cx="988920" cy="737640"/>
              <a:chOff x="1906560" y="5186520"/>
              <a:chExt cx="988920" cy="737640"/>
            </a:xfrm>
          </p:grpSpPr>
          <p:sp>
            <p:nvSpPr>
              <p:cNvPr id="195" name="Line 19"/>
              <p:cNvSpPr/>
              <p:nvPr/>
            </p:nvSpPr>
            <p:spPr>
              <a:xfrm>
                <a:off x="2687760" y="54896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196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6560" y="518652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6560" y="556560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8" name="Group 22"/>
          <p:cNvGrpSpPr/>
          <p:nvPr/>
        </p:nvGrpSpPr>
        <p:grpSpPr>
          <a:xfrm>
            <a:off x="2892600" y="4786200"/>
            <a:ext cx="407880" cy="550800"/>
            <a:chOff x="2892600" y="4786200"/>
            <a:chExt cx="407880" cy="550800"/>
          </a:xfrm>
        </p:grpSpPr>
        <p:sp>
          <p:nvSpPr>
            <p:cNvPr id="199" name="Freeform 23"/>
            <p:cNvSpPr/>
            <p:nvPr/>
          </p:nvSpPr>
          <p:spPr>
            <a:xfrm>
              <a:off x="2938320" y="481320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00" name="Picture 24" descr=""/>
            <p:cNvPicPr/>
            <p:nvPr/>
          </p:nvPicPr>
          <p:blipFill>
            <a:blip r:embed="rId3"/>
            <a:stretch/>
          </p:blipFill>
          <p:spPr>
            <a:xfrm>
              <a:off x="2892600" y="478620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AutoShape 25"/>
          <p:cNvSpPr/>
          <p:nvPr/>
        </p:nvSpPr>
        <p:spPr>
          <a:xfrm>
            <a:off x="1562040" y="38862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ly Major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89680" y="1709280"/>
            <a:ext cx="3481200" cy="29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agmati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relate to technology, but driven by a strong sense of practic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nt to see well-established references before buying into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747800" y="5099040"/>
            <a:ext cx="6410520" cy="968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315600" y="5165640"/>
            <a:ext cx="481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purchase when they’ve seen electri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s prove themselves and when there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 service stations on the roa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1924200" y="5207040"/>
            <a:ext cx="988920" cy="737640"/>
            <a:chOff x="1924200" y="5207040"/>
            <a:chExt cx="988920" cy="737640"/>
          </a:xfrm>
        </p:grpSpPr>
        <p:sp>
          <p:nvSpPr>
            <p:cNvPr id="207" name="AutoShape 8"/>
            <p:cNvSpPr/>
            <p:nvPr/>
          </p:nvSpPr>
          <p:spPr>
            <a:xfrm flipV="1">
              <a:off x="2027520" y="521388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08" name="Group 9"/>
            <p:cNvGrpSpPr/>
            <p:nvPr/>
          </p:nvGrpSpPr>
          <p:grpSpPr>
            <a:xfrm>
              <a:off x="1927440" y="5463720"/>
              <a:ext cx="982800" cy="349920"/>
              <a:chOff x="1927440" y="5463720"/>
              <a:chExt cx="982800" cy="349920"/>
            </a:xfrm>
          </p:grpSpPr>
          <p:sp>
            <p:nvSpPr>
              <p:cNvPr id="209" name="Oval 10"/>
              <p:cNvSpPr/>
              <p:nvPr/>
            </p:nvSpPr>
            <p:spPr>
              <a:xfrm rot="360000">
                <a:off x="1944360" y="5469480"/>
                <a:ext cx="13356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0" name="Oval 11"/>
              <p:cNvSpPr/>
              <p:nvPr/>
            </p:nvSpPr>
            <p:spPr>
              <a:xfrm rot="21300000">
                <a:off x="2762280" y="5469840"/>
                <a:ext cx="13356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1" name="AutoShape 12"/>
              <p:cNvSpPr/>
              <p:nvPr/>
            </p:nvSpPr>
            <p:spPr>
              <a:xfrm flipV="1">
                <a:off x="1971720" y="546552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3"/>
            <p:cNvGrpSpPr/>
            <p:nvPr/>
          </p:nvGrpSpPr>
          <p:grpSpPr>
            <a:xfrm>
              <a:off x="1924200" y="5207040"/>
              <a:ext cx="988920" cy="737640"/>
              <a:chOff x="1924200" y="5207040"/>
              <a:chExt cx="988920" cy="737640"/>
            </a:xfrm>
          </p:grpSpPr>
          <p:sp>
            <p:nvSpPr>
              <p:cNvPr id="213" name="Line 14"/>
              <p:cNvSpPr/>
              <p:nvPr/>
            </p:nvSpPr>
            <p:spPr>
              <a:xfrm>
                <a:off x="2705400" y="550980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14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4200" y="520704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4200" y="558612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Group 17"/>
          <p:cNvGrpSpPr/>
          <p:nvPr/>
        </p:nvGrpSpPr>
        <p:grpSpPr>
          <a:xfrm>
            <a:off x="2909880" y="4807080"/>
            <a:ext cx="407880" cy="550800"/>
            <a:chOff x="2909880" y="4807080"/>
            <a:chExt cx="407880" cy="550800"/>
          </a:xfrm>
        </p:grpSpPr>
        <p:sp>
          <p:nvSpPr>
            <p:cNvPr id="217" name="Freeform 18"/>
            <p:cNvSpPr/>
            <p:nvPr/>
          </p:nvSpPr>
          <p:spPr>
            <a:xfrm>
              <a:off x="2955600" y="483408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18" name="Picture 19" descr=""/>
            <p:cNvPicPr/>
            <p:nvPr/>
          </p:nvPicPr>
          <p:blipFill>
            <a:blip r:embed="rId3"/>
            <a:stretch/>
          </p:blipFill>
          <p:spPr>
            <a:xfrm>
              <a:off x="2909880" y="480708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Rectangle 20"/>
          <p:cNvSpPr/>
          <p:nvPr/>
        </p:nvSpPr>
        <p:spPr>
          <a:xfrm>
            <a:off x="304920" y="1003320"/>
            <a:ext cx="750384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Freeform 21"/>
          <p:cNvSpPr/>
          <p:nvPr/>
        </p:nvSpPr>
        <p:spPr>
          <a:xfrm>
            <a:off x="3456000" y="2851200"/>
            <a:ext cx="1114560" cy="10126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1" name="Freeform 22"/>
          <p:cNvSpPr/>
          <p:nvPr/>
        </p:nvSpPr>
        <p:spPr>
          <a:xfrm>
            <a:off x="2811600" y="1622520"/>
            <a:ext cx="645840" cy="2241360"/>
          </a:xfrm>
          <a:custGeom>
            <a:avLst/>
            <a:gdLst>
              <a:gd name="textAreaLeft" fmla="*/ 0 w 645840"/>
              <a:gd name="textAreaRight" fmla="*/ 645840 w 64584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Freeform 23"/>
          <p:cNvSpPr/>
          <p:nvPr/>
        </p:nvSpPr>
        <p:spPr>
          <a:xfrm>
            <a:off x="2166840" y="1631880"/>
            <a:ext cx="646200" cy="22273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3" name="Freeform 24"/>
          <p:cNvSpPr/>
          <p:nvPr/>
        </p:nvSpPr>
        <p:spPr>
          <a:xfrm>
            <a:off x="1558800" y="286380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Freeform 25"/>
          <p:cNvSpPr/>
          <p:nvPr/>
        </p:nvSpPr>
        <p:spPr>
          <a:xfrm>
            <a:off x="1079640" y="368604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5" name="AutoShape 26"/>
          <p:cNvSpPr/>
          <p:nvPr/>
        </p:nvSpPr>
        <p:spPr>
          <a:xfrm>
            <a:off x="2220840" y="38736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te Major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25520" y="1477440"/>
            <a:ext cx="392292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serva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comfortable with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wait until the new technology is established as a standar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need lots of support if they are to willingly adopt the new technolo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3443400" y="2835360"/>
            <a:ext cx="1001520" cy="101268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2798640" y="1596960"/>
            <a:ext cx="581040" cy="2251080"/>
          </a:xfrm>
          <a:custGeom>
            <a:avLst/>
            <a:gdLst>
              <a:gd name="textAreaLeft" fmla="*/ 0 w 581040"/>
              <a:gd name="textAreaRight" fmla="*/ 581400 w 58104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2154240" y="1596960"/>
            <a:ext cx="581040" cy="2251080"/>
          </a:xfrm>
          <a:custGeom>
            <a:avLst/>
            <a:gdLst>
              <a:gd name="textAreaLeft" fmla="*/ 0 w 581040"/>
              <a:gd name="textAreaRight" fmla="*/ 581400 w 58104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1546200" y="2847960"/>
            <a:ext cx="558720" cy="1000080"/>
          </a:xfrm>
          <a:custGeom>
            <a:avLst/>
            <a:gdLst>
              <a:gd name="textAreaLeft" fmla="*/ 0 w 558720"/>
              <a:gd name="textAreaRight" fmla="*/ 559080 w 5587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1066680" y="3670200"/>
            <a:ext cx="432000" cy="177840"/>
          </a:xfrm>
          <a:custGeom>
            <a:avLst/>
            <a:gdLst>
              <a:gd name="textAreaLeft" fmla="*/ 0 w 432000"/>
              <a:gd name="textAreaRight" fmla="*/ 432360 w 43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1735200" y="5264280"/>
            <a:ext cx="6289560" cy="968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246840" y="5332320"/>
            <a:ext cx="4799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not purchase until most people hav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switch and it becomes inconveni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ive a gasoline ca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35" name="Group 12"/>
          <p:cNvGrpSpPr/>
          <p:nvPr/>
        </p:nvGrpSpPr>
        <p:grpSpPr>
          <a:xfrm>
            <a:off x="1903320" y="5361120"/>
            <a:ext cx="889200" cy="737640"/>
            <a:chOff x="1903320" y="5361120"/>
            <a:chExt cx="889200" cy="737640"/>
          </a:xfrm>
        </p:grpSpPr>
        <p:sp>
          <p:nvSpPr>
            <p:cNvPr id="236" name="AutoShape 13"/>
            <p:cNvSpPr/>
            <p:nvPr/>
          </p:nvSpPr>
          <p:spPr>
            <a:xfrm flipV="1">
              <a:off x="1995840" y="5367960"/>
              <a:ext cx="714960" cy="247320"/>
            </a:xfrm>
            <a:custGeom>
              <a:avLst/>
              <a:gdLst>
                <a:gd name="textAreaLeft" fmla="*/ 118440 w 714960"/>
                <a:gd name="textAreaRight" fmla="*/ 596520 w 71496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37" name="Group 14"/>
            <p:cNvGrpSpPr/>
            <p:nvPr/>
          </p:nvGrpSpPr>
          <p:grpSpPr>
            <a:xfrm>
              <a:off x="1904400" y="5618520"/>
              <a:ext cx="885960" cy="348480"/>
              <a:chOff x="1904400" y="5618520"/>
              <a:chExt cx="885960" cy="348480"/>
            </a:xfrm>
          </p:grpSpPr>
          <p:sp>
            <p:nvSpPr>
              <p:cNvPr id="238" name="Oval 15"/>
              <p:cNvSpPr/>
              <p:nvPr/>
            </p:nvSpPr>
            <p:spPr>
              <a:xfrm rot="360000">
                <a:off x="1921680" y="5623560"/>
                <a:ext cx="11952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39" name="Oval 16"/>
              <p:cNvSpPr/>
              <p:nvPr/>
            </p:nvSpPr>
            <p:spPr>
              <a:xfrm rot="21300000">
                <a:off x="2656440" y="5623560"/>
                <a:ext cx="11952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40" name="AutoShape 17"/>
              <p:cNvSpPr/>
              <p:nvPr/>
            </p:nvSpPr>
            <p:spPr>
              <a:xfrm flipV="1">
                <a:off x="1945800" y="5619600"/>
                <a:ext cx="803520" cy="344160"/>
              </a:xfrm>
              <a:custGeom>
                <a:avLst/>
                <a:gdLst>
                  <a:gd name="textAreaLeft" fmla="*/ 84240 w 803520"/>
                  <a:gd name="textAreaRight" fmla="*/ 719280 w 80352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1903320" y="5361120"/>
              <a:ext cx="889200" cy="737640"/>
              <a:chOff x="1903320" y="5361120"/>
              <a:chExt cx="889200" cy="737640"/>
            </a:xfrm>
          </p:grpSpPr>
          <p:sp>
            <p:nvSpPr>
              <p:cNvPr id="242" name="Line 19"/>
              <p:cNvSpPr/>
              <p:nvPr/>
            </p:nvSpPr>
            <p:spPr>
              <a:xfrm>
                <a:off x="2605320" y="5663880"/>
                <a:ext cx="11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43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3320" y="5361120"/>
                <a:ext cx="88920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3320" y="5740200"/>
                <a:ext cx="88920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5" name="Group 22"/>
          <p:cNvGrpSpPr/>
          <p:nvPr/>
        </p:nvGrpSpPr>
        <p:grpSpPr>
          <a:xfrm>
            <a:off x="2889360" y="4960800"/>
            <a:ext cx="366480" cy="550800"/>
            <a:chOff x="2889360" y="4960800"/>
            <a:chExt cx="366480" cy="550800"/>
          </a:xfrm>
        </p:grpSpPr>
        <p:sp>
          <p:nvSpPr>
            <p:cNvPr id="246" name="Freeform 23"/>
            <p:cNvSpPr/>
            <p:nvPr/>
          </p:nvSpPr>
          <p:spPr>
            <a:xfrm>
              <a:off x="2930760" y="4987800"/>
              <a:ext cx="283680" cy="52236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47" name="Picture 24" descr=""/>
            <p:cNvPicPr/>
            <p:nvPr/>
          </p:nvPicPr>
          <p:blipFill>
            <a:blip r:embed="rId3"/>
            <a:stretch/>
          </p:blipFill>
          <p:spPr>
            <a:xfrm>
              <a:off x="2889360" y="4960800"/>
              <a:ext cx="3664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AutoShape 25"/>
          <p:cNvSpPr/>
          <p:nvPr/>
        </p:nvSpPr>
        <p:spPr>
          <a:xfrm>
            <a:off x="2843280" y="3886200"/>
            <a:ext cx="436320" cy="658800"/>
          </a:xfrm>
          <a:prstGeom prst="upArrow">
            <a:avLst>
              <a:gd name="adj1" fmla="val 50000"/>
              <a:gd name="adj2" fmla="val 37748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ggard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6160" y="1709640"/>
            <a:ext cx="3784680" cy="30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kept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’t stand to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n’t want anything to do with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y quick to point out what is wrong with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1" name="Freeform 5"/>
          <p:cNvSpPr/>
          <p:nvPr/>
        </p:nvSpPr>
        <p:spPr>
          <a:xfrm>
            <a:off x="3036960" y="2852640"/>
            <a:ext cx="1114200" cy="101304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cc00cc"/>
          </a:solidFill>
          <a:ln cap="rnd"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2" name="Freeform 6"/>
          <p:cNvSpPr/>
          <p:nvPr/>
        </p:nvSpPr>
        <p:spPr>
          <a:xfrm>
            <a:off x="2392200" y="1614600"/>
            <a:ext cx="646200" cy="225108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3" name="Freeform 7"/>
          <p:cNvSpPr/>
          <p:nvPr/>
        </p:nvSpPr>
        <p:spPr>
          <a:xfrm>
            <a:off x="1747800" y="1614600"/>
            <a:ext cx="646200" cy="225108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4" name="Freeform 8"/>
          <p:cNvSpPr/>
          <p:nvPr/>
        </p:nvSpPr>
        <p:spPr>
          <a:xfrm>
            <a:off x="1127160" y="286560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5" name="Freeform 9"/>
          <p:cNvSpPr/>
          <p:nvPr/>
        </p:nvSpPr>
        <p:spPr>
          <a:xfrm>
            <a:off x="647640" y="368784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1308240" y="5083200"/>
            <a:ext cx="5829120" cy="9777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971800" y="5235480"/>
            <a:ext cx="401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 an electric car?...you must be crazy.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1533600" y="5183280"/>
            <a:ext cx="988920" cy="737640"/>
            <a:chOff x="1533600" y="5183280"/>
            <a:chExt cx="988920" cy="737640"/>
          </a:xfrm>
        </p:grpSpPr>
        <p:sp>
          <p:nvSpPr>
            <p:cNvPr id="259" name="AutoShape 13"/>
            <p:cNvSpPr/>
            <p:nvPr/>
          </p:nvSpPr>
          <p:spPr>
            <a:xfrm flipV="1">
              <a:off x="1636560" y="519012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60" name="Group 14"/>
            <p:cNvGrpSpPr/>
            <p:nvPr/>
          </p:nvGrpSpPr>
          <p:grpSpPr>
            <a:xfrm>
              <a:off x="1536840" y="5439960"/>
              <a:ext cx="982440" cy="349920"/>
              <a:chOff x="1536840" y="5439960"/>
              <a:chExt cx="982440" cy="349920"/>
            </a:xfrm>
          </p:grpSpPr>
          <p:sp>
            <p:nvSpPr>
              <p:cNvPr id="261" name="Oval 15"/>
              <p:cNvSpPr/>
              <p:nvPr/>
            </p:nvSpPr>
            <p:spPr>
              <a:xfrm rot="360000">
                <a:off x="1553760" y="5445720"/>
                <a:ext cx="13320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2" name="Oval 16"/>
              <p:cNvSpPr/>
              <p:nvPr/>
            </p:nvSpPr>
            <p:spPr>
              <a:xfrm rot="21300000">
                <a:off x="2371680" y="5446080"/>
                <a:ext cx="13320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3" name="AutoShape 17"/>
              <p:cNvSpPr/>
              <p:nvPr/>
            </p:nvSpPr>
            <p:spPr>
              <a:xfrm flipV="1">
                <a:off x="1581120" y="544176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8"/>
            <p:cNvGrpSpPr/>
            <p:nvPr/>
          </p:nvGrpSpPr>
          <p:grpSpPr>
            <a:xfrm>
              <a:off x="1533600" y="5183280"/>
              <a:ext cx="988920" cy="737640"/>
              <a:chOff x="1533600" y="5183280"/>
              <a:chExt cx="988920" cy="737640"/>
            </a:xfrm>
          </p:grpSpPr>
          <p:sp>
            <p:nvSpPr>
              <p:cNvPr id="265" name="Line 19"/>
              <p:cNvSpPr/>
              <p:nvPr/>
            </p:nvSpPr>
            <p:spPr>
              <a:xfrm>
                <a:off x="2314440" y="54860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66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533600" y="518328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3600" y="556236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8" name="Group 22"/>
          <p:cNvGrpSpPr/>
          <p:nvPr/>
        </p:nvGrpSpPr>
        <p:grpSpPr>
          <a:xfrm>
            <a:off x="2519280" y="4782960"/>
            <a:ext cx="407880" cy="550800"/>
            <a:chOff x="2519280" y="4782960"/>
            <a:chExt cx="407880" cy="550800"/>
          </a:xfrm>
        </p:grpSpPr>
        <p:sp>
          <p:nvSpPr>
            <p:cNvPr id="269" name="Freeform 23"/>
            <p:cNvSpPr/>
            <p:nvPr/>
          </p:nvSpPr>
          <p:spPr>
            <a:xfrm>
              <a:off x="2565360" y="480996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70" name="Picture 24" descr=""/>
            <p:cNvPicPr/>
            <p:nvPr/>
          </p:nvPicPr>
          <p:blipFill>
            <a:blip r:embed="rId3"/>
            <a:stretch/>
          </p:blipFill>
          <p:spPr>
            <a:xfrm>
              <a:off x="2519280" y="478296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AutoShape 25"/>
          <p:cNvSpPr/>
          <p:nvPr/>
        </p:nvSpPr>
        <p:spPr>
          <a:xfrm>
            <a:off x="3247920" y="38862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with the Categor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s are made up of individuals in each of the categories of adop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novators and early adopters will pick up the new technology and run with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adopter categorie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tter packaging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ences from early ado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ckaging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477960" y="1753920"/>
            <a:ext cx="46162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ore believes that there is a gap separating each group which symbolizes the difficulty that any group will have in accepting a new technology if it is presented in the same way as it was presented to the group to its immediate lef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002280" y="4051440"/>
            <a:ext cx="2565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Groups to the right of early adopter also need positive references from early adopt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7" name="Freeform 6"/>
          <p:cNvSpPr/>
          <p:nvPr/>
        </p:nvSpPr>
        <p:spPr>
          <a:xfrm>
            <a:off x="5610240" y="5048280"/>
            <a:ext cx="760320" cy="689040"/>
          </a:xfrm>
          <a:custGeom>
            <a:avLst/>
            <a:gdLst>
              <a:gd name="textAreaLeft" fmla="*/ 0 w 760320"/>
              <a:gd name="textAreaRight" fmla="*/ 760680 w 7603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479" h="434">
                <a:moveTo>
                  <a:pt x="300" y="375"/>
                </a:moveTo>
                <a:lnTo>
                  <a:pt x="345" y="398"/>
                </a:lnTo>
                <a:lnTo>
                  <a:pt x="390" y="413"/>
                </a:lnTo>
                <a:lnTo>
                  <a:pt x="425" y="425"/>
                </a:lnTo>
                <a:lnTo>
                  <a:pt x="478" y="433"/>
                </a:lnTo>
                <a:lnTo>
                  <a:pt x="0" y="433"/>
                </a:lnTo>
                <a:lnTo>
                  <a:pt x="0" y="0"/>
                </a:lnTo>
                <a:lnTo>
                  <a:pt x="38" y="80"/>
                </a:lnTo>
                <a:lnTo>
                  <a:pt x="68" y="133"/>
                </a:lnTo>
                <a:lnTo>
                  <a:pt x="110" y="197"/>
                </a:lnTo>
                <a:lnTo>
                  <a:pt x="148" y="247"/>
                </a:lnTo>
                <a:lnTo>
                  <a:pt x="190" y="292"/>
                </a:lnTo>
                <a:lnTo>
                  <a:pt x="224" y="319"/>
                </a:lnTo>
                <a:lnTo>
                  <a:pt x="254" y="345"/>
                </a:lnTo>
                <a:lnTo>
                  <a:pt x="284" y="368"/>
                </a:lnTo>
                <a:lnTo>
                  <a:pt x="300" y="375"/>
                </a:lnTo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8" name="Freeform 7"/>
          <p:cNvSpPr/>
          <p:nvPr/>
        </p:nvSpPr>
        <p:spPr>
          <a:xfrm>
            <a:off x="5081760" y="4206960"/>
            <a:ext cx="439560" cy="1530360"/>
          </a:xfrm>
          <a:custGeom>
            <a:avLst/>
            <a:gdLst>
              <a:gd name="textAreaLeft" fmla="*/ 0 w 439560"/>
              <a:gd name="textAreaRight" fmla="*/ 439920 w 4395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77" h="964">
                <a:moveTo>
                  <a:pt x="0" y="0"/>
                </a:moveTo>
                <a:lnTo>
                  <a:pt x="30" y="11"/>
                </a:lnTo>
                <a:lnTo>
                  <a:pt x="60" y="34"/>
                </a:lnTo>
                <a:lnTo>
                  <a:pt x="87" y="68"/>
                </a:lnTo>
                <a:lnTo>
                  <a:pt x="117" y="117"/>
                </a:lnTo>
                <a:lnTo>
                  <a:pt x="151" y="201"/>
                </a:lnTo>
                <a:lnTo>
                  <a:pt x="185" y="295"/>
                </a:lnTo>
                <a:lnTo>
                  <a:pt x="231" y="428"/>
                </a:lnTo>
                <a:lnTo>
                  <a:pt x="250" y="466"/>
                </a:lnTo>
                <a:lnTo>
                  <a:pt x="276" y="530"/>
                </a:lnTo>
                <a:lnTo>
                  <a:pt x="276" y="963"/>
                </a:lnTo>
                <a:lnTo>
                  <a:pt x="0" y="963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9" name="Freeform 8"/>
          <p:cNvSpPr/>
          <p:nvPr/>
        </p:nvSpPr>
        <p:spPr>
          <a:xfrm>
            <a:off x="4551480" y="4206960"/>
            <a:ext cx="441360" cy="1530360"/>
          </a:xfrm>
          <a:custGeom>
            <a:avLst/>
            <a:gdLst>
              <a:gd name="textAreaLeft" fmla="*/ 0 w 441360"/>
              <a:gd name="textAreaRight" fmla="*/ 441720 w 4413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78" h="964">
                <a:moveTo>
                  <a:pt x="277" y="0"/>
                </a:moveTo>
                <a:lnTo>
                  <a:pt x="243" y="11"/>
                </a:lnTo>
                <a:lnTo>
                  <a:pt x="212" y="34"/>
                </a:lnTo>
                <a:lnTo>
                  <a:pt x="186" y="68"/>
                </a:lnTo>
                <a:lnTo>
                  <a:pt x="159" y="117"/>
                </a:lnTo>
                <a:lnTo>
                  <a:pt x="121" y="201"/>
                </a:lnTo>
                <a:lnTo>
                  <a:pt x="87" y="295"/>
                </a:lnTo>
                <a:lnTo>
                  <a:pt x="42" y="428"/>
                </a:lnTo>
                <a:lnTo>
                  <a:pt x="27" y="466"/>
                </a:lnTo>
                <a:lnTo>
                  <a:pt x="0" y="530"/>
                </a:lnTo>
                <a:lnTo>
                  <a:pt x="0" y="963"/>
                </a:lnTo>
                <a:lnTo>
                  <a:pt x="277" y="963"/>
                </a:lnTo>
                <a:lnTo>
                  <a:pt x="277" y="0"/>
                </a:lnTo>
              </a:path>
            </a:pathLst>
          </a:custGeom>
          <a:solidFill>
            <a:srgbClr val="cc99ff"/>
          </a:solidFill>
          <a:ln cap="rnd"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0" name="Freeform 9"/>
          <p:cNvSpPr/>
          <p:nvPr/>
        </p:nvSpPr>
        <p:spPr>
          <a:xfrm>
            <a:off x="3884760" y="5054760"/>
            <a:ext cx="422280" cy="682560"/>
          </a:xfrm>
          <a:custGeom>
            <a:avLst/>
            <a:gdLst>
              <a:gd name="textAreaLeft" fmla="*/ 0 w 422280"/>
              <a:gd name="textAreaRight" fmla="*/ 422640 w 4222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66" h="430">
                <a:moveTo>
                  <a:pt x="0" y="429"/>
                </a:moveTo>
                <a:lnTo>
                  <a:pt x="265" y="429"/>
                </a:lnTo>
                <a:lnTo>
                  <a:pt x="265" y="0"/>
                </a:lnTo>
                <a:lnTo>
                  <a:pt x="227" y="76"/>
                </a:lnTo>
                <a:lnTo>
                  <a:pt x="197" y="129"/>
                </a:lnTo>
                <a:lnTo>
                  <a:pt x="151" y="193"/>
                </a:lnTo>
                <a:lnTo>
                  <a:pt x="113" y="243"/>
                </a:lnTo>
                <a:lnTo>
                  <a:pt x="75" y="288"/>
                </a:lnTo>
                <a:lnTo>
                  <a:pt x="41" y="315"/>
                </a:lnTo>
                <a:lnTo>
                  <a:pt x="0" y="352"/>
                </a:lnTo>
                <a:lnTo>
                  <a:pt x="0" y="429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1" name="Freeform 10"/>
          <p:cNvSpPr/>
          <p:nvPr/>
        </p:nvSpPr>
        <p:spPr>
          <a:xfrm>
            <a:off x="3468600" y="5619600"/>
            <a:ext cx="327240" cy="117720"/>
          </a:xfrm>
          <a:custGeom>
            <a:avLst/>
            <a:gdLst>
              <a:gd name="textAreaLeft" fmla="*/ 0 w 327240"/>
              <a:gd name="textAreaRight" fmla="*/ 327600 w 3272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06" h="74">
                <a:moveTo>
                  <a:pt x="205" y="73"/>
                </a:moveTo>
                <a:lnTo>
                  <a:pt x="205" y="0"/>
                </a:lnTo>
                <a:lnTo>
                  <a:pt x="182" y="12"/>
                </a:lnTo>
                <a:lnTo>
                  <a:pt x="163" y="23"/>
                </a:lnTo>
                <a:lnTo>
                  <a:pt x="136" y="38"/>
                </a:lnTo>
                <a:lnTo>
                  <a:pt x="114" y="46"/>
                </a:lnTo>
                <a:lnTo>
                  <a:pt x="91" y="53"/>
                </a:lnTo>
                <a:lnTo>
                  <a:pt x="68" y="61"/>
                </a:lnTo>
                <a:lnTo>
                  <a:pt x="38" y="68"/>
                </a:lnTo>
                <a:lnTo>
                  <a:pt x="0" y="73"/>
                </a:lnTo>
                <a:lnTo>
                  <a:pt x="205" y="73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4398840" y="6229440"/>
            <a:ext cx="397080" cy="0"/>
          </a:xfrm>
          <a:prstGeom prst="line">
            <a:avLst/>
          </a:prstGeom>
          <a:ln w="381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4791600" y="6093000"/>
            <a:ext cx="1446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e “chasm”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4" name="Freeform 13"/>
          <p:cNvSpPr/>
          <p:nvPr/>
        </p:nvSpPr>
        <p:spPr>
          <a:xfrm>
            <a:off x="2378160" y="2355840"/>
            <a:ext cx="798480" cy="730440"/>
          </a:xfrm>
          <a:custGeom>
            <a:avLst/>
            <a:gdLst>
              <a:gd name="textAreaLeft" fmla="*/ 0 w 798480"/>
              <a:gd name="textAreaRight" fmla="*/ 798840 w 798480"/>
              <a:gd name="textAreaTop" fmla="*/ 0 h 730440"/>
              <a:gd name="textAreaBottom" fmla="*/ 730440 h 730440"/>
            </a:gdLst>
            <a:ahLst/>
            <a:rect l="textAreaLeft" t="textAreaTop" r="textAreaRight" b="textAreaBottom"/>
            <a:pathLst>
              <a:path w="503" h="460">
                <a:moveTo>
                  <a:pt x="314" y="398"/>
                </a:moveTo>
                <a:lnTo>
                  <a:pt x="362" y="422"/>
                </a:lnTo>
                <a:lnTo>
                  <a:pt x="410" y="438"/>
                </a:lnTo>
                <a:lnTo>
                  <a:pt x="446" y="446"/>
                </a:lnTo>
                <a:lnTo>
                  <a:pt x="502" y="459"/>
                </a:lnTo>
                <a:lnTo>
                  <a:pt x="0" y="459"/>
                </a:lnTo>
                <a:lnTo>
                  <a:pt x="0" y="0"/>
                </a:lnTo>
                <a:lnTo>
                  <a:pt x="39" y="87"/>
                </a:lnTo>
                <a:lnTo>
                  <a:pt x="71" y="139"/>
                </a:lnTo>
                <a:lnTo>
                  <a:pt x="115" y="207"/>
                </a:lnTo>
                <a:lnTo>
                  <a:pt x="155" y="259"/>
                </a:lnTo>
                <a:lnTo>
                  <a:pt x="199" y="307"/>
                </a:lnTo>
                <a:lnTo>
                  <a:pt x="235" y="339"/>
                </a:lnTo>
                <a:lnTo>
                  <a:pt x="267" y="366"/>
                </a:lnTo>
                <a:lnTo>
                  <a:pt x="299" y="390"/>
                </a:lnTo>
                <a:lnTo>
                  <a:pt x="314" y="398"/>
                </a:lnTo>
              </a:path>
            </a:pathLst>
          </a:custGeom>
          <a:solidFill>
            <a:srgbClr val="cc00cc"/>
          </a:solidFill>
          <a:ln cap="rnd"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5" name="Freeform 14"/>
          <p:cNvSpPr/>
          <p:nvPr/>
        </p:nvSpPr>
        <p:spPr>
          <a:xfrm>
            <a:off x="1914480" y="1473120"/>
            <a:ext cx="465120" cy="1613160"/>
          </a:xfrm>
          <a:custGeom>
            <a:avLst/>
            <a:gdLst>
              <a:gd name="textAreaLeft" fmla="*/ 0 w 465120"/>
              <a:gd name="textAreaRight" fmla="*/ 465480 w 46512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293" h="1016">
                <a:moveTo>
                  <a:pt x="0" y="0"/>
                </a:moveTo>
                <a:lnTo>
                  <a:pt x="32" y="8"/>
                </a:lnTo>
                <a:lnTo>
                  <a:pt x="64" y="32"/>
                </a:lnTo>
                <a:lnTo>
                  <a:pt x="91" y="68"/>
                </a:lnTo>
                <a:lnTo>
                  <a:pt x="123" y="119"/>
                </a:lnTo>
                <a:lnTo>
                  <a:pt x="164" y="211"/>
                </a:lnTo>
                <a:lnTo>
                  <a:pt x="196" y="307"/>
                </a:lnTo>
                <a:lnTo>
                  <a:pt x="244" y="447"/>
                </a:lnTo>
                <a:lnTo>
                  <a:pt x="263" y="491"/>
                </a:lnTo>
                <a:lnTo>
                  <a:pt x="292" y="559"/>
                </a:lnTo>
                <a:lnTo>
                  <a:pt x="292" y="1015"/>
                </a:lnTo>
                <a:lnTo>
                  <a:pt x="0" y="1015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462600" y="3311640"/>
            <a:ext cx="72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Innovator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752760" y="3513240"/>
            <a:ext cx="93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Early Adopter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1240560" y="3311640"/>
            <a:ext cx="88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Early Major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9" name="Rectangle 18"/>
          <p:cNvSpPr/>
          <p:nvPr/>
        </p:nvSpPr>
        <p:spPr>
          <a:xfrm>
            <a:off x="1730880" y="3513240"/>
            <a:ext cx="8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Late Major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2326680" y="3311640"/>
            <a:ext cx="6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Laggard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1" name="Line 20"/>
          <p:cNvSpPr/>
          <p:nvPr/>
        </p:nvSpPr>
        <p:spPr>
          <a:xfrm>
            <a:off x="82404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2" name="Line 21"/>
          <p:cNvSpPr/>
          <p:nvPr/>
        </p:nvSpPr>
        <p:spPr>
          <a:xfrm>
            <a:off x="1217520" y="3110040"/>
            <a:ext cx="0" cy="39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167940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4" name="Line 23"/>
          <p:cNvSpPr/>
          <p:nvPr/>
        </p:nvSpPr>
        <p:spPr>
          <a:xfrm>
            <a:off x="2141640" y="3110040"/>
            <a:ext cx="0" cy="4014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5" name="Line 24"/>
          <p:cNvSpPr/>
          <p:nvPr/>
        </p:nvSpPr>
        <p:spPr>
          <a:xfrm>
            <a:off x="265572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1001880" y="2370240"/>
            <a:ext cx="446040" cy="716040"/>
          </a:xfrm>
          <a:custGeom>
            <a:avLst/>
            <a:gdLst>
              <a:gd name="textAreaLeft" fmla="*/ 0 w 446040"/>
              <a:gd name="textAreaRight" fmla="*/ 446400 w 446040"/>
              <a:gd name="textAreaTop" fmla="*/ 0 h 716040"/>
              <a:gd name="textAreaBottom" fmla="*/ 716040 h 716040"/>
            </a:gdLst>
            <a:ahLst/>
            <a:rect l="textAreaLeft" t="textAreaTop" r="textAreaRight" b="textAreaBottom"/>
            <a:pathLst>
              <a:path w="281" h="451">
                <a:moveTo>
                  <a:pt x="0" y="450"/>
                </a:moveTo>
                <a:lnTo>
                  <a:pt x="280" y="450"/>
                </a:lnTo>
                <a:lnTo>
                  <a:pt x="280" y="0"/>
                </a:lnTo>
                <a:lnTo>
                  <a:pt x="239" y="79"/>
                </a:lnTo>
                <a:lnTo>
                  <a:pt x="207" y="131"/>
                </a:lnTo>
                <a:lnTo>
                  <a:pt x="163" y="198"/>
                </a:lnTo>
                <a:lnTo>
                  <a:pt x="124" y="250"/>
                </a:lnTo>
                <a:lnTo>
                  <a:pt x="80" y="298"/>
                </a:lnTo>
                <a:lnTo>
                  <a:pt x="48" y="330"/>
                </a:lnTo>
                <a:lnTo>
                  <a:pt x="0" y="370"/>
                </a:lnTo>
                <a:lnTo>
                  <a:pt x="0" y="450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1450800" y="1473120"/>
            <a:ext cx="465480" cy="1613160"/>
          </a:xfrm>
          <a:custGeom>
            <a:avLst/>
            <a:gdLst>
              <a:gd name="textAreaLeft" fmla="*/ 0 w 465480"/>
              <a:gd name="textAreaRight" fmla="*/ 465840 w 46548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293" h="1016">
                <a:moveTo>
                  <a:pt x="292" y="0"/>
                </a:moveTo>
                <a:lnTo>
                  <a:pt x="259" y="8"/>
                </a:lnTo>
                <a:lnTo>
                  <a:pt x="227" y="32"/>
                </a:lnTo>
                <a:lnTo>
                  <a:pt x="200" y="68"/>
                </a:lnTo>
                <a:lnTo>
                  <a:pt x="168" y="119"/>
                </a:lnTo>
                <a:lnTo>
                  <a:pt x="127" y="211"/>
                </a:lnTo>
                <a:lnTo>
                  <a:pt x="95" y="307"/>
                </a:lnTo>
                <a:lnTo>
                  <a:pt x="47" y="447"/>
                </a:lnTo>
                <a:lnTo>
                  <a:pt x="28" y="491"/>
                </a:lnTo>
                <a:lnTo>
                  <a:pt x="0" y="559"/>
                </a:lnTo>
                <a:lnTo>
                  <a:pt x="0" y="1015"/>
                </a:lnTo>
                <a:lnTo>
                  <a:pt x="292" y="1015"/>
                </a:lnTo>
                <a:lnTo>
                  <a:pt x="292" y="0"/>
                </a:lnTo>
              </a:path>
            </a:pathLst>
          </a:custGeom>
          <a:solidFill>
            <a:srgbClr val="cc99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Freeform 27"/>
          <p:cNvSpPr/>
          <p:nvPr/>
        </p:nvSpPr>
        <p:spPr>
          <a:xfrm>
            <a:off x="665280" y="2963880"/>
            <a:ext cx="331560" cy="120600"/>
          </a:xfrm>
          <a:custGeom>
            <a:avLst/>
            <a:gdLst>
              <a:gd name="textAreaLeft" fmla="*/ 0 w 331560"/>
              <a:gd name="textAreaRight" fmla="*/ 331920 w 3315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09" h="76">
                <a:moveTo>
                  <a:pt x="208" y="75"/>
                </a:moveTo>
                <a:lnTo>
                  <a:pt x="208" y="0"/>
                </a:lnTo>
                <a:lnTo>
                  <a:pt x="184" y="12"/>
                </a:lnTo>
                <a:lnTo>
                  <a:pt x="165" y="23"/>
                </a:lnTo>
                <a:lnTo>
                  <a:pt x="137" y="39"/>
                </a:lnTo>
                <a:lnTo>
                  <a:pt x="115" y="47"/>
                </a:lnTo>
                <a:lnTo>
                  <a:pt x="92" y="55"/>
                </a:lnTo>
                <a:lnTo>
                  <a:pt x="69" y="63"/>
                </a:lnTo>
                <a:lnTo>
                  <a:pt x="39" y="70"/>
                </a:lnTo>
                <a:lnTo>
                  <a:pt x="0" y="75"/>
                </a:lnTo>
                <a:lnTo>
                  <a:pt x="208" y="75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9" name="AutoShape 28"/>
          <p:cNvSpPr/>
          <p:nvPr/>
        </p:nvSpPr>
        <p:spPr>
          <a:xfrm>
            <a:off x="3594240" y="4192560"/>
            <a:ext cx="914400" cy="838080"/>
          </a:xfrm>
          <a:custGeom>
            <a:avLst/>
            <a:gdLst>
              <a:gd name="textAreaLeft" fmla="*/ 133920 w 914400"/>
              <a:gd name="textAreaRight" fmla="*/ 780480 w 91440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5872" y="9491"/>
                </a:moveTo>
                <a:cubicBezTo>
                  <a:pt x="15275" y="7177"/>
                  <a:pt x="13189" y="5561"/>
                  <a:pt x="10800" y="5561"/>
                </a:cubicBezTo>
                <a:cubicBezTo>
                  <a:pt x="9795" y="5560"/>
                  <a:pt x="8812" y="5849"/>
                  <a:pt x="7968" y="6392"/>
                </a:cubicBezTo>
                <a:lnTo>
                  <a:pt x="4962" y="1713"/>
                </a:lnTo>
                <a:cubicBezTo>
                  <a:pt x="6703" y="594"/>
                  <a:pt x="8730" y="-1"/>
                  <a:pt x="10800" y="0"/>
                </a:cubicBezTo>
                <a:cubicBezTo>
                  <a:pt x="15725" y="0"/>
                  <a:pt x="20026" y="3332"/>
                  <a:pt x="21257" y="8101"/>
                </a:cubicBezTo>
                <a:lnTo>
                  <a:pt x="23871" y="7427"/>
                </a:lnTo>
                <a:lnTo>
                  <a:pt x="19934" y="14103"/>
                </a:lnTo>
                <a:lnTo>
                  <a:pt x="13258" y="10165"/>
                </a:lnTo>
                <a:lnTo>
                  <a:pt x="15872" y="9491"/>
                </a:lnTo>
                <a:close/>
              </a:path>
            </a:pathLst>
          </a:custGeom>
          <a:solidFill>
            <a:srgbClr val="9c2108"/>
          </a:solidFill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4416480" y="5775480"/>
            <a:ext cx="0" cy="457200"/>
          </a:xfrm>
          <a:prstGeom prst="line">
            <a:avLst/>
          </a:prstGeom>
          <a:ln w="3816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1" name="Rectangle 30"/>
          <p:cNvSpPr/>
          <p:nvPr/>
        </p:nvSpPr>
        <p:spPr>
          <a:xfrm>
            <a:off x="1187280" y="3986280"/>
            <a:ext cx="2565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he most significant gap is the one that separates the early adopters from the early major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novators and Early Adopters</a:t>
            </a:r>
            <a:br>
              <a:rPr sz="3600"/>
            </a:b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n Tailor a New Technolo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17360" y="2142720"/>
            <a:ext cx="741348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 technology is first introduced, the focus is on the “thing” itself . . . the core technolo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630360" y="5321160"/>
            <a:ext cx="8254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ndividuals least in need of support are the technology enthusiasts.  These people can cobble together bits and pieces of systems and build their own rough whole produ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5" name="Freeform 6"/>
          <p:cNvSpPr/>
          <p:nvPr/>
        </p:nvSpPr>
        <p:spPr>
          <a:xfrm>
            <a:off x="5519880" y="4167360"/>
            <a:ext cx="912600" cy="834840"/>
          </a:xfrm>
          <a:custGeom>
            <a:avLst/>
            <a:gdLst>
              <a:gd name="textAreaLeft" fmla="*/ 0 w 912600"/>
              <a:gd name="textAreaRight" fmla="*/ 912960 w 91260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575" h="526">
                <a:moveTo>
                  <a:pt x="359" y="453"/>
                </a:moveTo>
                <a:lnTo>
                  <a:pt x="415" y="477"/>
                </a:lnTo>
                <a:lnTo>
                  <a:pt x="470" y="501"/>
                </a:lnTo>
                <a:lnTo>
                  <a:pt x="510" y="509"/>
                </a:lnTo>
                <a:lnTo>
                  <a:pt x="574" y="525"/>
                </a:lnTo>
                <a:lnTo>
                  <a:pt x="0" y="525"/>
                </a:lnTo>
                <a:lnTo>
                  <a:pt x="0" y="0"/>
                </a:lnTo>
                <a:lnTo>
                  <a:pt x="48" y="96"/>
                </a:lnTo>
                <a:lnTo>
                  <a:pt x="80" y="159"/>
                </a:lnTo>
                <a:lnTo>
                  <a:pt x="135" y="231"/>
                </a:lnTo>
                <a:lnTo>
                  <a:pt x="175" y="294"/>
                </a:lnTo>
                <a:lnTo>
                  <a:pt x="231" y="350"/>
                </a:lnTo>
                <a:lnTo>
                  <a:pt x="263" y="382"/>
                </a:lnTo>
                <a:lnTo>
                  <a:pt x="303" y="414"/>
                </a:lnTo>
                <a:lnTo>
                  <a:pt x="343" y="438"/>
                </a:lnTo>
                <a:lnTo>
                  <a:pt x="359" y="453"/>
                </a:lnTo>
              </a:path>
            </a:pathLst>
          </a:custGeom>
          <a:solidFill>
            <a:srgbClr val="cc00cc"/>
          </a:solidFill>
          <a:ln cap="rnd"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6" name="Freeform 7"/>
          <p:cNvSpPr/>
          <p:nvPr/>
        </p:nvSpPr>
        <p:spPr>
          <a:xfrm>
            <a:off x="4873680" y="3144960"/>
            <a:ext cx="533520" cy="1857240"/>
          </a:xfrm>
          <a:custGeom>
            <a:avLst/>
            <a:gdLst>
              <a:gd name="textAreaLeft" fmla="*/ 0 w 533520"/>
              <a:gd name="textAreaRight" fmla="*/ 533880 w 53352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336" h="1170">
                <a:moveTo>
                  <a:pt x="0" y="0"/>
                </a:moveTo>
                <a:lnTo>
                  <a:pt x="40" y="16"/>
                </a:lnTo>
                <a:lnTo>
                  <a:pt x="72" y="40"/>
                </a:lnTo>
                <a:lnTo>
                  <a:pt x="104" y="79"/>
                </a:lnTo>
                <a:lnTo>
                  <a:pt x="144" y="143"/>
                </a:lnTo>
                <a:lnTo>
                  <a:pt x="184" y="238"/>
                </a:lnTo>
                <a:lnTo>
                  <a:pt x="223" y="358"/>
                </a:lnTo>
                <a:lnTo>
                  <a:pt x="279" y="517"/>
                </a:lnTo>
                <a:lnTo>
                  <a:pt x="303" y="565"/>
                </a:lnTo>
                <a:lnTo>
                  <a:pt x="335" y="644"/>
                </a:lnTo>
                <a:lnTo>
                  <a:pt x="335" y="1169"/>
                </a:lnTo>
                <a:lnTo>
                  <a:pt x="0" y="1169"/>
                </a:lnTo>
                <a:lnTo>
                  <a:pt x="0" y="0"/>
                </a:lnTo>
              </a:path>
            </a:pathLst>
          </a:custGeom>
          <a:solidFill>
            <a:srgbClr val="cc00ff"/>
          </a:solidFill>
          <a:ln cap="rnd"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7" name="Freeform 8"/>
          <p:cNvSpPr/>
          <p:nvPr/>
        </p:nvSpPr>
        <p:spPr>
          <a:xfrm>
            <a:off x="4227480" y="3144960"/>
            <a:ext cx="533520" cy="1857240"/>
          </a:xfrm>
          <a:custGeom>
            <a:avLst/>
            <a:gdLst>
              <a:gd name="textAreaLeft" fmla="*/ 0 w 533520"/>
              <a:gd name="textAreaRight" fmla="*/ 533880 w 53352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336" h="1170">
                <a:moveTo>
                  <a:pt x="335" y="0"/>
                </a:moveTo>
                <a:lnTo>
                  <a:pt x="295" y="16"/>
                </a:lnTo>
                <a:lnTo>
                  <a:pt x="264" y="40"/>
                </a:lnTo>
                <a:lnTo>
                  <a:pt x="232" y="79"/>
                </a:lnTo>
                <a:lnTo>
                  <a:pt x="192" y="143"/>
                </a:lnTo>
                <a:lnTo>
                  <a:pt x="152" y="238"/>
                </a:lnTo>
                <a:lnTo>
                  <a:pt x="112" y="358"/>
                </a:lnTo>
                <a:lnTo>
                  <a:pt x="56" y="517"/>
                </a:lnTo>
                <a:lnTo>
                  <a:pt x="32" y="565"/>
                </a:lnTo>
                <a:lnTo>
                  <a:pt x="0" y="644"/>
                </a:lnTo>
                <a:lnTo>
                  <a:pt x="0" y="1169"/>
                </a:lnTo>
                <a:lnTo>
                  <a:pt x="335" y="1169"/>
                </a:lnTo>
                <a:lnTo>
                  <a:pt x="335" y="0"/>
                </a:lnTo>
              </a:path>
            </a:pathLst>
          </a:custGeom>
          <a:solidFill>
            <a:srgbClr val="cc99ff"/>
          </a:solidFill>
          <a:ln cap="rnd"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8" name="Freeform 9"/>
          <p:cNvSpPr/>
          <p:nvPr/>
        </p:nvSpPr>
        <p:spPr>
          <a:xfrm>
            <a:off x="3417840" y="4275000"/>
            <a:ext cx="574560" cy="727200"/>
          </a:xfrm>
          <a:custGeom>
            <a:avLst/>
            <a:gdLst>
              <a:gd name="textAreaLeft" fmla="*/ 0 w 574560"/>
              <a:gd name="textAreaRight" fmla="*/ 574920 w 57456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328" h="526">
                <a:moveTo>
                  <a:pt x="0" y="525"/>
                </a:moveTo>
                <a:lnTo>
                  <a:pt x="327" y="525"/>
                </a:lnTo>
                <a:lnTo>
                  <a:pt x="327" y="0"/>
                </a:lnTo>
                <a:lnTo>
                  <a:pt x="279" y="96"/>
                </a:lnTo>
                <a:lnTo>
                  <a:pt x="239" y="159"/>
                </a:lnTo>
                <a:lnTo>
                  <a:pt x="191" y="231"/>
                </a:lnTo>
                <a:lnTo>
                  <a:pt x="144" y="294"/>
                </a:lnTo>
                <a:lnTo>
                  <a:pt x="96" y="350"/>
                </a:lnTo>
                <a:lnTo>
                  <a:pt x="56" y="382"/>
                </a:lnTo>
                <a:lnTo>
                  <a:pt x="0" y="430"/>
                </a:lnTo>
                <a:lnTo>
                  <a:pt x="0" y="525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9" name="Freeform 10"/>
          <p:cNvSpPr/>
          <p:nvPr/>
        </p:nvSpPr>
        <p:spPr>
          <a:xfrm>
            <a:off x="2924280" y="4849920"/>
            <a:ext cx="393480" cy="152280"/>
          </a:xfrm>
          <a:custGeom>
            <a:avLst/>
            <a:gdLst>
              <a:gd name="textAreaLeft" fmla="*/ 0 w 393480"/>
              <a:gd name="textAreaRight" fmla="*/ 393840 w 393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48" h="96">
                <a:moveTo>
                  <a:pt x="247" y="95"/>
                </a:moveTo>
                <a:lnTo>
                  <a:pt x="247" y="0"/>
                </a:lnTo>
                <a:lnTo>
                  <a:pt x="223" y="15"/>
                </a:lnTo>
                <a:lnTo>
                  <a:pt x="191" y="31"/>
                </a:lnTo>
                <a:lnTo>
                  <a:pt x="167" y="47"/>
                </a:lnTo>
                <a:lnTo>
                  <a:pt x="136" y="55"/>
                </a:lnTo>
                <a:lnTo>
                  <a:pt x="112" y="71"/>
                </a:lnTo>
                <a:lnTo>
                  <a:pt x="80" y="79"/>
                </a:lnTo>
                <a:lnTo>
                  <a:pt x="48" y="87"/>
                </a:lnTo>
                <a:lnTo>
                  <a:pt x="0" y="95"/>
                </a:lnTo>
                <a:lnTo>
                  <a:pt x="247" y="95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1841400" y="3036960"/>
            <a:ext cx="1254240" cy="1251000"/>
          </a:xfrm>
          <a:prstGeom prst="ellipse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2147760" y="335772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2287440" y="3398760"/>
            <a:ext cx="4593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ORE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2564280" y="3357720"/>
            <a:ext cx="235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1882080" y="354816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1996920" y="3589200"/>
            <a:ext cx="994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ECHNOLOG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06200" y="903240"/>
            <a:ext cx="79246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ridging the Gap for the Mainstr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majority of adopters, the technology must be augmented by an integrated suite of services and ancillary products to become the “whole product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1007280" y="3071880"/>
            <a:ext cx="6962040" cy="2058480"/>
            <a:chOff x="1007280" y="3071880"/>
            <a:chExt cx="6962040" cy="2058480"/>
          </a:xfrm>
        </p:grpSpPr>
        <p:sp>
          <p:nvSpPr>
            <p:cNvPr id="319" name="Rectangle 6"/>
            <p:cNvSpPr/>
            <p:nvPr/>
          </p:nvSpPr>
          <p:spPr>
            <a:xfrm>
              <a:off x="4556160" y="3570120"/>
              <a:ext cx="16524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0" name="Freeform 7"/>
            <p:cNvSpPr/>
            <p:nvPr/>
          </p:nvSpPr>
          <p:spPr>
            <a:xfrm>
              <a:off x="3164040" y="4294080"/>
              <a:ext cx="536400" cy="48888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38" h="308">
                  <a:moveTo>
                    <a:pt x="211" y="266"/>
                  </a:moveTo>
                  <a:lnTo>
                    <a:pt x="244" y="280"/>
                  </a:lnTo>
                  <a:lnTo>
                    <a:pt x="276" y="293"/>
                  </a:lnTo>
                  <a:lnTo>
                    <a:pt x="300" y="298"/>
                  </a:lnTo>
                  <a:lnTo>
                    <a:pt x="337" y="307"/>
                  </a:lnTo>
                  <a:lnTo>
                    <a:pt x="0" y="307"/>
                  </a:lnTo>
                  <a:lnTo>
                    <a:pt x="0" y="0"/>
                  </a:lnTo>
                  <a:lnTo>
                    <a:pt x="29" y="56"/>
                  </a:lnTo>
                  <a:lnTo>
                    <a:pt x="47" y="93"/>
                  </a:lnTo>
                  <a:lnTo>
                    <a:pt x="80" y="140"/>
                  </a:lnTo>
                  <a:lnTo>
                    <a:pt x="103" y="172"/>
                  </a:lnTo>
                  <a:lnTo>
                    <a:pt x="131" y="205"/>
                  </a:lnTo>
                  <a:lnTo>
                    <a:pt x="155" y="228"/>
                  </a:lnTo>
                  <a:lnTo>
                    <a:pt x="178" y="242"/>
                  </a:lnTo>
                  <a:lnTo>
                    <a:pt x="202" y="261"/>
                  </a:lnTo>
                  <a:lnTo>
                    <a:pt x="211" y="266"/>
                  </a:lnTo>
                </a:path>
              </a:pathLst>
            </a:custGeom>
            <a:solidFill>
              <a:srgbClr val="cc00cc"/>
            </a:solidFill>
            <a:ln cap="rnd"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1" name="Freeform 8"/>
            <p:cNvSpPr/>
            <p:nvPr/>
          </p:nvSpPr>
          <p:spPr>
            <a:xfrm>
              <a:off x="2786040" y="3693960"/>
              <a:ext cx="312840" cy="1089000"/>
            </a:xfrm>
            <a:custGeom>
              <a:avLst/>
              <a:gdLst/>
              <a:ahLst/>
              <a:rect l="l" t="t" r="r" b="b"/>
              <a:pathLst>
                <a:path w="197" h="686">
                  <a:moveTo>
                    <a:pt x="0" y="0"/>
                  </a:moveTo>
                  <a:lnTo>
                    <a:pt x="23" y="9"/>
                  </a:lnTo>
                  <a:lnTo>
                    <a:pt x="42" y="23"/>
                  </a:lnTo>
                  <a:lnTo>
                    <a:pt x="61" y="46"/>
                  </a:lnTo>
                  <a:lnTo>
                    <a:pt x="84" y="84"/>
                  </a:lnTo>
                  <a:lnTo>
                    <a:pt x="108" y="144"/>
                  </a:lnTo>
                  <a:lnTo>
                    <a:pt x="131" y="210"/>
                  </a:lnTo>
                  <a:lnTo>
                    <a:pt x="164" y="303"/>
                  </a:lnTo>
                  <a:lnTo>
                    <a:pt x="178" y="331"/>
                  </a:lnTo>
                  <a:lnTo>
                    <a:pt x="196" y="378"/>
                  </a:lnTo>
                  <a:lnTo>
                    <a:pt x="196" y="685"/>
                  </a:lnTo>
                  <a:lnTo>
                    <a:pt x="0" y="685"/>
                  </a:lnTo>
                  <a:lnTo>
                    <a:pt x="0" y="0"/>
                  </a:lnTo>
                </a:path>
              </a:pathLst>
            </a:custGeom>
            <a:solidFill>
              <a:srgbClr val="cc00ff"/>
            </a:solidFill>
            <a:ln cap="rnd" w="93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2" name="Freeform 9"/>
            <p:cNvSpPr/>
            <p:nvPr/>
          </p:nvSpPr>
          <p:spPr>
            <a:xfrm>
              <a:off x="2406600" y="3693960"/>
              <a:ext cx="314280" cy="10890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198" h="686">
                  <a:moveTo>
                    <a:pt x="197" y="0"/>
                  </a:moveTo>
                  <a:lnTo>
                    <a:pt x="174" y="9"/>
                  </a:lnTo>
                  <a:lnTo>
                    <a:pt x="155" y="23"/>
                  </a:lnTo>
                  <a:lnTo>
                    <a:pt x="136" y="46"/>
                  </a:lnTo>
                  <a:lnTo>
                    <a:pt x="113" y="84"/>
                  </a:lnTo>
                  <a:lnTo>
                    <a:pt x="89" y="144"/>
                  </a:lnTo>
                  <a:lnTo>
                    <a:pt x="66" y="210"/>
                  </a:lnTo>
                  <a:lnTo>
                    <a:pt x="33" y="303"/>
                  </a:lnTo>
                  <a:lnTo>
                    <a:pt x="19" y="331"/>
                  </a:lnTo>
                  <a:lnTo>
                    <a:pt x="0" y="378"/>
                  </a:lnTo>
                  <a:lnTo>
                    <a:pt x="0" y="685"/>
                  </a:lnTo>
                  <a:lnTo>
                    <a:pt x="197" y="685"/>
                  </a:lnTo>
                  <a:lnTo>
                    <a:pt x="197" y="0"/>
                  </a:lnTo>
                </a:path>
              </a:pathLst>
            </a:custGeom>
            <a:solidFill>
              <a:srgbClr val="cc99ff"/>
            </a:solidFill>
            <a:ln cap="rnd"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1932120" y="4300560"/>
              <a:ext cx="306360" cy="482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93" h="304">
                  <a:moveTo>
                    <a:pt x="0" y="303"/>
                  </a:moveTo>
                  <a:lnTo>
                    <a:pt x="192" y="303"/>
                  </a:lnTo>
                  <a:lnTo>
                    <a:pt x="192" y="0"/>
                  </a:lnTo>
                  <a:lnTo>
                    <a:pt x="164" y="52"/>
                  </a:lnTo>
                  <a:lnTo>
                    <a:pt x="140" y="89"/>
                  </a:lnTo>
                  <a:lnTo>
                    <a:pt x="112" y="136"/>
                  </a:lnTo>
                  <a:lnTo>
                    <a:pt x="84" y="168"/>
                  </a:lnTo>
                  <a:lnTo>
                    <a:pt x="56" y="201"/>
                  </a:lnTo>
                  <a:lnTo>
                    <a:pt x="33" y="224"/>
                  </a:lnTo>
                  <a:lnTo>
                    <a:pt x="0" y="248"/>
                  </a:lnTo>
                  <a:lnTo>
                    <a:pt x="0" y="303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4" name="Freeform 11"/>
            <p:cNvSpPr/>
            <p:nvPr/>
          </p:nvSpPr>
          <p:spPr>
            <a:xfrm>
              <a:off x="1643040" y="4694400"/>
              <a:ext cx="231840" cy="885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46" h="56">
                  <a:moveTo>
                    <a:pt x="145" y="55"/>
                  </a:moveTo>
                  <a:lnTo>
                    <a:pt x="145" y="0"/>
                  </a:lnTo>
                  <a:lnTo>
                    <a:pt x="131" y="9"/>
                  </a:lnTo>
                  <a:lnTo>
                    <a:pt x="112" y="18"/>
                  </a:lnTo>
                  <a:lnTo>
                    <a:pt x="93" y="28"/>
                  </a:lnTo>
                  <a:lnTo>
                    <a:pt x="79" y="37"/>
                  </a:lnTo>
                  <a:lnTo>
                    <a:pt x="65" y="41"/>
                  </a:lnTo>
                  <a:lnTo>
                    <a:pt x="47" y="46"/>
                  </a:lnTo>
                  <a:lnTo>
                    <a:pt x="23" y="51"/>
                  </a:lnTo>
                  <a:lnTo>
                    <a:pt x="0" y="55"/>
                  </a:lnTo>
                  <a:lnTo>
                    <a:pt x="145" y="5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5" name="Rectangle 12"/>
            <p:cNvSpPr/>
            <p:nvPr/>
          </p:nvSpPr>
          <p:spPr>
            <a:xfrm>
              <a:off x="6243480" y="3848040"/>
              <a:ext cx="1725840" cy="93492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6176880" y="3781440"/>
              <a:ext cx="1725840" cy="9349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6260760" y="3868560"/>
              <a:ext cx="1478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Anything else that is 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6261840" y="4008600"/>
              <a:ext cx="13690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needed to achieve 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9" name="Rectangle 16"/>
            <p:cNvSpPr/>
            <p:nvPr/>
          </p:nvSpPr>
          <p:spPr>
            <a:xfrm>
              <a:off x="6258960" y="4149720"/>
              <a:ext cx="14652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adoption of the core 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6258600" y="4290840"/>
              <a:ext cx="1690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product into routine use 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6261840" y="4430880"/>
              <a:ext cx="8402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9536b"/>
                  </a:solidFill>
                  <a:latin typeface="Arial"/>
                </a:rPr>
                <a:t>or practice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3630600" y="3078000"/>
              <a:ext cx="2000160" cy="199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3" name="Oval 20"/>
            <p:cNvSpPr/>
            <p:nvPr/>
          </p:nvSpPr>
          <p:spPr>
            <a:xfrm>
              <a:off x="4618080" y="4062240"/>
              <a:ext cx="252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4" name="Line 21"/>
            <p:cNvSpPr/>
            <p:nvPr/>
          </p:nvSpPr>
          <p:spPr>
            <a:xfrm>
              <a:off x="3825720" y="3471840"/>
              <a:ext cx="1603440" cy="11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 flipH="1">
              <a:off x="3825720" y="3471840"/>
              <a:ext cx="1602000" cy="11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4627440" y="3071880"/>
              <a:ext cx="0" cy="19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 flipH="1">
              <a:off x="3624120" y="4071960"/>
              <a:ext cx="20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4678200" y="3324240"/>
              <a:ext cx="54792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s 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4633200" y="3421080"/>
              <a:ext cx="5994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gration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0" name="Rectangle 27"/>
            <p:cNvSpPr/>
            <p:nvPr/>
          </p:nvSpPr>
          <p:spPr>
            <a:xfrm>
              <a:off x="3994200" y="3368520"/>
              <a:ext cx="6346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1" name="Rectangle 28"/>
            <p:cNvSpPr/>
            <p:nvPr/>
          </p:nvSpPr>
          <p:spPr>
            <a:xfrm>
              <a:off x="3647160" y="3724200"/>
              <a:ext cx="6148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ference 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2" name="Rectangle 29"/>
            <p:cNvSpPr/>
            <p:nvPr/>
          </p:nvSpPr>
          <p:spPr>
            <a:xfrm>
              <a:off x="3674880" y="3821040"/>
              <a:ext cx="5418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5084640" y="4199040"/>
              <a:ext cx="4730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ooling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5024520" y="3798720"/>
              <a:ext cx="5234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b Aids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5" name="Rectangle 32"/>
            <p:cNvSpPr/>
            <p:nvPr/>
          </p:nvSpPr>
          <p:spPr>
            <a:xfrm>
              <a:off x="4110480" y="4591080"/>
              <a:ext cx="48996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3704040" y="4205160"/>
              <a:ext cx="5022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7" name="Rectangle 34"/>
            <p:cNvSpPr/>
            <p:nvPr/>
          </p:nvSpPr>
          <p:spPr>
            <a:xfrm>
              <a:off x="4662360" y="4568760"/>
              <a:ext cx="6300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stallation 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4722480" y="4664160"/>
              <a:ext cx="492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7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4262400" y="3714840"/>
              <a:ext cx="728640" cy="7286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4416120" y="3898800"/>
              <a:ext cx="25812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1" name="Rectangle 38"/>
            <p:cNvSpPr/>
            <p:nvPr/>
          </p:nvSpPr>
          <p:spPr>
            <a:xfrm>
              <a:off x="4491000" y="3919680"/>
              <a:ext cx="3495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2" name="Rectangle 39"/>
            <p:cNvSpPr/>
            <p:nvPr/>
          </p:nvSpPr>
          <p:spPr>
            <a:xfrm>
              <a:off x="4660560" y="3898800"/>
              <a:ext cx="21384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3" name="Rectangle 40"/>
            <p:cNvSpPr/>
            <p:nvPr/>
          </p:nvSpPr>
          <p:spPr>
            <a:xfrm>
              <a:off x="4260240" y="4010040"/>
              <a:ext cx="24768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4" name="Rectangle 41"/>
            <p:cNvSpPr/>
            <p:nvPr/>
          </p:nvSpPr>
          <p:spPr>
            <a:xfrm>
              <a:off x="4319640" y="4030560"/>
              <a:ext cx="671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CHNOLOGY</a:t>
              </a:r>
              <a:endParaRPr b="0" lang="en-US" sz="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5" name="Oval 42"/>
            <p:cNvSpPr/>
            <p:nvPr/>
          </p:nvSpPr>
          <p:spPr>
            <a:xfrm>
              <a:off x="1011240" y="3633840"/>
              <a:ext cx="728640" cy="72720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6" name="Rectangle 43"/>
            <p:cNvSpPr/>
            <p:nvPr/>
          </p:nvSpPr>
          <p:spPr>
            <a:xfrm>
              <a:off x="1164960" y="3816360"/>
              <a:ext cx="258120" cy="2019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9536b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7" name="Rectangle 44"/>
            <p:cNvSpPr/>
            <p:nvPr/>
          </p:nvSpPr>
          <p:spPr>
            <a:xfrm>
              <a:off x="1238400" y="3836880"/>
              <a:ext cx="3495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9536b"/>
                  </a:solidFill>
                  <a:latin typeface="Arial"/>
                </a:rPr>
                <a:t>ORE</a:t>
              </a:r>
              <a:endParaRPr b="0" lang="en-US" sz="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8" name="Rectangle 45"/>
            <p:cNvSpPr/>
            <p:nvPr/>
          </p:nvSpPr>
          <p:spPr>
            <a:xfrm>
              <a:off x="1353960" y="3816360"/>
              <a:ext cx="26856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9536b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9" name="Rectangle 46"/>
            <p:cNvSpPr/>
            <p:nvPr/>
          </p:nvSpPr>
          <p:spPr>
            <a:xfrm>
              <a:off x="1007280" y="3927600"/>
              <a:ext cx="24768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9536b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0" name="Rectangle 47"/>
            <p:cNvSpPr/>
            <p:nvPr/>
          </p:nvSpPr>
          <p:spPr>
            <a:xfrm>
              <a:off x="1076400" y="3948120"/>
              <a:ext cx="671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9536b"/>
                  </a:solidFill>
                  <a:latin typeface="Arial"/>
                </a:rPr>
                <a:t>ECHNOLOGY</a:t>
              </a:r>
              <a:endParaRPr b="0" lang="en-US" sz="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1" name="AutoShape 48"/>
            <p:cNvSpPr/>
            <p:nvPr/>
          </p:nvSpPr>
          <p:spPr>
            <a:xfrm rot="10800000">
              <a:off x="5625720" y="4520880"/>
              <a:ext cx="1066680" cy="609480"/>
            </a:xfrm>
            <a:custGeom>
              <a:avLst/>
              <a:gdLst>
                <a:gd name="textAreaLeft" fmla="*/ 155520 w 1066680"/>
                <a:gd name="textAreaRight" fmla="*/ 911160 w 1066680"/>
                <a:gd name="textAreaTop" fmla="*/ 88920 h 609480"/>
                <a:gd name="textAreaBottom" fmla="*/ 520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84" y="9056"/>
                  </a:moveTo>
                  <a:cubicBezTo>
                    <a:pt x="14947" y="6992"/>
                    <a:pt x="12991" y="5614"/>
                    <a:pt x="10800" y="5614"/>
                  </a:cubicBezTo>
                  <a:cubicBezTo>
                    <a:pt x="8829" y="5613"/>
                    <a:pt x="7029" y="6730"/>
                    <a:pt x="6153" y="8496"/>
                  </a:cubicBezTo>
                  <a:lnTo>
                    <a:pt x="1124" y="6001"/>
                  </a:lnTo>
                  <a:cubicBezTo>
                    <a:pt x="2947" y="2325"/>
                    <a:pt x="6696" y="-1"/>
                    <a:pt x="10800" y="0"/>
                  </a:cubicBezTo>
                  <a:cubicBezTo>
                    <a:pt x="15364" y="0"/>
                    <a:pt x="19436" y="2869"/>
                    <a:pt x="20971" y="7168"/>
                  </a:cubicBezTo>
                  <a:lnTo>
                    <a:pt x="23514" y="6260"/>
                  </a:lnTo>
                  <a:lnTo>
                    <a:pt x="20179" y="13298"/>
                  </a:lnTo>
                  <a:lnTo>
                    <a:pt x="13141" y="9964"/>
                  </a:lnTo>
                  <a:lnTo>
                    <a:pt x="15684" y="9056"/>
                  </a:lnTo>
                  <a:close/>
                </a:path>
              </a:pathLst>
            </a:custGeom>
            <a:solidFill>
              <a:srgbClr val="87abb9"/>
            </a:solidFill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2" name="AutoShape 49"/>
            <p:cNvSpPr/>
            <p:nvPr/>
          </p:nvSpPr>
          <p:spPr>
            <a:xfrm flipH="1">
              <a:off x="5701680" y="3301920"/>
              <a:ext cx="1066680" cy="609840"/>
            </a:xfrm>
            <a:custGeom>
              <a:avLst/>
              <a:gdLst>
                <a:gd name="textAreaLeft" fmla="*/ 155520 w 1066680"/>
                <a:gd name="textAreaRight" fmla="*/ 911160 w 1066680"/>
                <a:gd name="textAreaTop" fmla="*/ 88920 h 609840"/>
                <a:gd name="textAreaBottom" fmla="*/ 5209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56" y="9281"/>
                  </a:moveTo>
                  <a:cubicBezTo>
                    <a:pt x="15769" y="6721"/>
                    <a:pt x="13449" y="4943"/>
                    <a:pt x="10800" y="4943"/>
                  </a:cubicBezTo>
                  <a:cubicBezTo>
                    <a:pt x="8195" y="4942"/>
                    <a:pt x="5903" y="6663"/>
                    <a:pt x="5175" y="9164"/>
                  </a:cubicBezTo>
                  <a:lnTo>
                    <a:pt x="429" y="7784"/>
                  </a:lnTo>
                  <a:cubicBezTo>
                    <a:pt x="1770" y="3172"/>
                    <a:pt x="5996" y="-1"/>
                    <a:pt x="10800" y="0"/>
                  </a:cubicBezTo>
                  <a:cubicBezTo>
                    <a:pt x="15686" y="0"/>
                    <a:pt x="19963" y="3280"/>
                    <a:pt x="21230" y="7999"/>
                  </a:cubicBezTo>
                  <a:lnTo>
                    <a:pt x="23838" y="7299"/>
                  </a:lnTo>
                  <a:lnTo>
                    <a:pt x="20185" y="13636"/>
                  </a:lnTo>
                  <a:lnTo>
                    <a:pt x="13848" y="9981"/>
                  </a:lnTo>
                  <a:lnTo>
                    <a:pt x="16456" y="9281"/>
                  </a:lnTo>
                  <a:close/>
                </a:path>
              </a:pathLst>
            </a:custGeom>
            <a:solidFill>
              <a:srgbClr val="87abb9"/>
            </a:solidFill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“Whole Product” Concep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1663560" y="1422360"/>
            <a:ext cx="5181480" cy="4495680"/>
            <a:chOff x="1663560" y="1422360"/>
            <a:chExt cx="5181480" cy="4495680"/>
          </a:xfrm>
        </p:grpSpPr>
        <p:sp>
          <p:nvSpPr>
            <p:cNvPr id="365" name="Rectangle 5"/>
            <p:cNvSpPr/>
            <p:nvPr/>
          </p:nvSpPr>
          <p:spPr>
            <a:xfrm>
              <a:off x="1663560" y="1422360"/>
              <a:ext cx="518148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6" name="Oval 6"/>
            <p:cNvSpPr/>
            <p:nvPr/>
          </p:nvSpPr>
          <p:spPr>
            <a:xfrm>
              <a:off x="2279520" y="1741320"/>
              <a:ext cx="4037040" cy="3938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3620880" y="3046320"/>
              <a:ext cx="1341360" cy="13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3987000" y="3130560"/>
              <a:ext cx="668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Core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9" name="Rectangle 9"/>
            <p:cNvSpPr/>
            <p:nvPr/>
          </p:nvSpPr>
          <p:spPr>
            <a:xfrm>
              <a:off x="3862080" y="3395520"/>
              <a:ext cx="959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product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0" name="Rectangle 10"/>
            <p:cNvSpPr/>
            <p:nvPr/>
          </p:nvSpPr>
          <p:spPr>
            <a:xfrm>
              <a:off x="3179520" y="2143080"/>
              <a:ext cx="931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s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3399840" y="2306520"/>
              <a:ext cx="456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3666600" y="2306520"/>
              <a:ext cx="223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3265560" y="2459160"/>
              <a:ext cx="754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2539800" y="3230640"/>
              <a:ext cx="277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5" name="Rectangle 15"/>
            <p:cNvSpPr/>
            <p:nvPr/>
          </p:nvSpPr>
          <p:spPr>
            <a:xfrm>
              <a:off x="2622240" y="3230640"/>
              <a:ext cx="73656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ining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3817440" y="4811760"/>
              <a:ext cx="9910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4063320" y="4962600"/>
              <a:ext cx="456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8" name="Rectangle 18"/>
            <p:cNvSpPr/>
            <p:nvPr/>
          </p:nvSpPr>
          <p:spPr>
            <a:xfrm>
              <a:off x="4333320" y="4962600"/>
              <a:ext cx="223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9" name="Rectangle 19"/>
            <p:cNvSpPr/>
            <p:nvPr/>
          </p:nvSpPr>
          <p:spPr>
            <a:xfrm>
              <a:off x="3825360" y="5129280"/>
              <a:ext cx="963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bugging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0" name="Rectangle 20"/>
            <p:cNvSpPr/>
            <p:nvPr/>
          </p:nvSpPr>
          <p:spPr>
            <a:xfrm>
              <a:off x="4389840" y="2166840"/>
              <a:ext cx="9302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ditional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1" name="Rectangle 21"/>
            <p:cNvSpPr/>
            <p:nvPr/>
          </p:nvSpPr>
          <p:spPr>
            <a:xfrm>
              <a:off x="4405320" y="2370240"/>
              <a:ext cx="8128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2" name="Line 22"/>
            <p:cNvSpPr/>
            <p:nvPr/>
          </p:nvSpPr>
          <p:spPr>
            <a:xfrm>
              <a:off x="4682880" y="4305240"/>
              <a:ext cx="8985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3" name="Line 23"/>
            <p:cNvSpPr/>
            <p:nvPr/>
          </p:nvSpPr>
          <p:spPr>
            <a:xfrm flipH="1">
              <a:off x="3063240" y="4292640"/>
              <a:ext cx="84132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4" name="Line 24"/>
            <p:cNvSpPr/>
            <p:nvPr/>
          </p:nvSpPr>
          <p:spPr>
            <a:xfrm>
              <a:off x="4971960" y="3755880"/>
              <a:ext cx="132372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5" name="Line 25"/>
            <p:cNvSpPr/>
            <p:nvPr/>
          </p:nvSpPr>
          <p:spPr>
            <a:xfrm flipV="1">
              <a:off x="4714560" y="2293560"/>
              <a:ext cx="987480" cy="89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6" name="Line 26"/>
            <p:cNvSpPr/>
            <p:nvPr/>
          </p:nvSpPr>
          <p:spPr>
            <a:xfrm flipH="1" flipV="1">
              <a:off x="4275000" y="1736640"/>
              <a:ext cx="1440" cy="12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7" name="Line 27"/>
            <p:cNvSpPr/>
            <p:nvPr/>
          </p:nvSpPr>
          <p:spPr>
            <a:xfrm flipH="1" flipV="1">
              <a:off x="2741400" y="2457000"/>
              <a:ext cx="1079280" cy="78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8" name="Line 28"/>
            <p:cNvSpPr/>
            <p:nvPr/>
          </p:nvSpPr>
          <p:spPr>
            <a:xfrm flipH="1">
              <a:off x="2311200" y="3779640"/>
              <a:ext cx="130320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9" name="Rectangle 29"/>
            <p:cNvSpPr/>
            <p:nvPr/>
          </p:nvSpPr>
          <p:spPr>
            <a:xfrm>
              <a:off x="5302800" y="4292640"/>
              <a:ext cx="465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0" name="Rectangle 30"/>
            <p:cNvSpPr/>
            <p:nvPr/>
          </p:nvSpPr>
          <p:spPr>
            <a:xfrm>
              <a:off x="2650680" y="4292640"/>
              <a:ext cx="107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1" name="Rectangle 31"/>
            <p:cNvSpPr/>
            <p:nvPr/>
          </p:nvSpPr>
          <p:spPr>
            <a:xfrm>
              <a:off x="5221800" y="3179880"/>
              <a:ext cx="7686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2" name="Rectangle 32"/>
            <p:cNvSpPr/>
            <p:nvPr/>
          </p:nvSpPr>
          <p:spPr>
            <a:xfrm>
              <a:off x="4115520" y="36082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3" name="Rectangle 33"/>
            <p:cNvSpPr/>
            <p:nvPr/>
          </p:nvSpPr>
          <p:spPr>
            <a:xfrm>
              <a:off x="3674160" y="3854520"/>
              <a:ext cx="1239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19191"/>
                  </a:solidFill>
                  <a:latin typeface="Times New Roman"/>
                </a:rPr>
                <a:t>technology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94" name="Rectangle 34"/>
          <p:cNvSpPr/>
          <p:nvPr/>
        </p:nvSpPr>
        <p:spPr>
          <a:xfrm>
            <a:off x="619920" y="6129360"/>
            <a:ext cx="1456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Source: [Moore 91]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chnology Transition Ro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mp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fluences technology adop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ponso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pper management (authorizing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ine management (reinforcing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owered to impl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lot project team (first us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ther users (balance of us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177840" y="4381560"/>
            <a:ext cx="8813880" cy="2184840"/>
            <a:chOff x="177840" y="4381560"/>
            <a:chExt cx="8813880" cy="2184840"/>
          </a:xfrm>
        </p:grpSpPr>
        <p:grpSp>
          <p:nvGrpSpPr>
            <p:cNvPr id="398" name="Group 5"/>
            <p:cNvGrpSpPr/>
            <p:nvPr/>
          </p:nvGrpSpPr>
          <p:grpSpPr>
            <a:xfrm>
              <a:off x="2158920" y="4381560"/>
              <a:ext cx="1625760" cy="635040"/>
              <a:chOff x="2158920" y="4381560"/>
              <a:chExt cx="1625760" cy="635040"/>
            </a:xfrm>
          </p:grpSpPr>
          <p:sp>
            <p:nvSpPr>
              <p:cNvPr id="399" name="Text Box 6"/>
              <p:cNvSpPr/>
              <p:nvPr/>
            </p:nvSpPr>
            <p:spPr>
              <a:xfrm>
                <a:off x="2285640" y="4538520"/>
                <a:ext cx="14241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Champio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0" name="Oval 7"/>
              <p:cNvSpPr/>
              <p:nvPr/>
            </p:nvSpPr>
            <p:spPr>
              <a:xfrm>
                <a:off x="2158920" y="4381560"/>
                <a:ext cx="162576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8"/>
            <p:cNvGrpSpPr/>
            <p:nvPr/>
          </p:nvGrpSpPr>
          <p:grpSpPr>
            <a:xfrm>
              <a:off x="2565360" y="5486400"/>
              <a:ext cx="1625400" cy="635040"/>
              <a:chOff x="2565360" y="5486400"/>
              <a:chExt cx="1625400" cy="635040"/>
            </a:xfrm>
          </p:grpSpPr>
          <p:sp>
            <p:nvSpPr>
              <p:cNvPr id="402" name="Text Box 9"/>
              <p:cNvSpPr/>
              <p:nvPr/>
            </p:nvSpPr>
            <p:spPr>
              <a:xfrm>
                <a:off x="2799000" y="5618160"/>
                <a:ext cx="1212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Sponsor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3" name="Oval 10"/>
              <p:cNvSpPr/>
              <p:nvPr/>
            </p:nvSpPr>
            <p:spPr>
              <a:xfrm>
                <a:off x="2565360" y="5486400"/>
                <a:ext cx="162540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11"/>
            <p:cNvGrpSpPr/>
            <p:nvPr/>
          </p:nvGrpSpPr>
          <p:grpSpPr>
            <a:xfrm>
              <a:off x="4317840" y="4863960"/>
              <a:ext cx="1625760" cy="654120"/>
              <a:chOff x="4317840" y="4863960"/>
              <a:chExt cx="1625760" cy="654120"/>
            </a:xfrm>
          </p:grpSpPr>
          <p:sp>
            <p:nvSpPr>
              <p:cNvPr id="405" name="Text Box 12"/>
              <p:cNvSpPr/>
              <p:nvPr/>
            </p:nvSpPr>
            <p:spPr>
              <a:xfrm>
                <a:off x="4468680" y="4894200"/>
                <a:ext cx="1357560" cy="62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Change agent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6" name="Oval 13"/>
              <p:cNvSpPr/>
              <p:nvPr/>
            </p:nvSpPr>
            <p:spPr>
              <a:xfrm>
                <a:off x="4317840" y="4863960"/>
                <a:ext cx="162576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4"/>
            <p:cNvGrpSpPr/>
            <p:nvPr/>
          </p:nvGrpSpPr>
          <p:grpSpPr>
            <a:xfrm>
              <a:off x="6375240" y="4737240"/>
              <a:ext cx="2616480" cy="1600200"/>
              <a:chOff x="6375240" y="4737240"/>
              <a:chExt cx="2616480" cy="1600200"/>
            </a:xfrm>
          </p:grpSpPr>
          <p:sp>
            <p:nvSpPr>
              <p:cNvPr id="408" name="Text Box 15"/>
              <p:cNvSpPr/>
              <p:nvPr/>
            </p:nvSpPr>
            <p:spPr>
              <a:xfrm>
                <a:off x="7206120" y="5376960"/>
                <a:ext cx="9594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9" name="Oval 16"/>
              <p:cNvSpPr/>
              <p:nvPr/>
            </p:nvSpPr>
            <p:spPr>
              <a:xfrm>
                <a:off x="6375240" y="4737240"/>
                <a:ext cx="2616480" cy="160020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cxnSp>
          <p:nvCxnSpPr>
            <p:cNvPr id="410" name="AutoShape 17"/>
            <p:cNvCxnSpPr>
              <a:stCxn id="400" idx="6"/>
              <a:endCxn id="409" idx="1"/>
            </p:cNvCxnSpPr>
            <p:nvPr/>
          </p:nvCxnSpPr>
          <p:spPr>
            <a:xfrm>
              <a:off x="3784320" y="4699080"/>
              <a:ext cx="2973960" cy="273240"/>
            </a:xfrm>
            <a:prstGeom prst="curvedConnector2">
              <a:avLst/>
            </a:prstGeom>
            <a:ln w="12600">
              <a:solidFill>
                <a:srgbClr val="39536b"/>
              </a:solidFill>
              <a:prstDash val="lgDash"/>
              <a:miter/>
              <a:tailEnd len="lg" type="stealth" w="lg"/>
            </a:ln>
          </p:spPr>
        </p:cxnSp>
        <p:cxnSp>
          <p:nvCxnSpPr>
            <p:cNvPr id="411" name="AutoShape 18"/>
            <p:cNvCxnSpPr>
              <a:stCxn id="403" idx="6"/>
              <a:endCxn id="409" idx="3"/>
            </p:cNvCxnSpPr>
            <p:nvPr/>
          </p:nvCxnSpPr>
          <p:spPr>
            <a:xfrm>
              <a:off x="4191120" y="5803560"/>
              <a:ext cx="2567520" cy="299160"/>
            </a:xfrm>
            <a:prstGeom prst="curvedConnector5">
              <a:avLst>
                <a:gd name="adj1" fmla="val 42532"/>
                <a:gd name="adj2" fmla="val 127590"/>
                <a:gd name="adj3" fmla="val 42532"/>
              </a:avLst>
            </a:prstGeom>
            <a:ln w="12600">
              <a:solidFill>
                <a:srgbClr val="39536b"/>
              </a:solidFill>
              <a:prstDash val="lgDash"/>
              <a:miter/>
              <a:tailEnd len="lg" type="stealth" w="lg"/>
            </a:ln>
          </p:spPr>
        </p:cxnSp>
        <p:cxnSp>
          <p:nvCxnSpPr>
            <p:cNvPr id="412" name="AutoShape 19"/>
            <p:cNvCxnSpPr>
              <a:stCxn id="400" idx="5"/>
              <a:endCxn id="403" idx="0"/>
            </p:cNvCxnSpPr>
            <p:nvPr/>
          </p:nvCxnSpPr>
          <p:spPr>
            <a:xfrm rot="5400000">
              <a:off x="3179880" y="5120280"/>
              <a:ext cx="564120" cy="168840"/>
            </a:xfrm>
            <a:prstGeom prst="curvedConnector5">
              <a:avLst>
                <a:gd name="adj1" fmla="val 58301"/>
                <a:gd name="adj2" fmla="val 50000"/>
                <a:gd name="adj3" fmla="val 58301"/>
              </a:avLst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cxnSp>
          <p:nvCxnSpPr>
            <p:cNvPr id="413" name="AutoShape 20"/>
            <p:cNvCxnSpPr>
              <a:stCxn id="406" idx="5"/>
              <a:endCxn id="409" idx="2"/>
            </p:cNvCxnSpPr>
            <p:nvPr/>
          </p:nvCxnSpPr>
          <p:spPr>
            <a:xfrm flipH="1" rot="16200000">
              <a:off x="5974560" y="5136120"/>
              <a:ext cx="132480" cy="67032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sp>
          <p:nvSpPr>
            <p:cNvPr id="414" name="Text Box 21"/>
            <p:cNvSpPr/>
            <p:nvPr/>
          </p:nvSpPr>
          <p:spPr>
            <a:xfrm>
              <a:off x="489960" y="4878360"/>
              <a:ext cx="118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495360" y="5313240"/>
              <a:ext cx="1797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change management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416" name="AutoShape 23"/>
            <p:cNvCxnSpPr/>
            <p:nvPr/>
          </p:nvCxnSpPr>
          <p:spPr>
            <a:xfrm flipH="1" flipV="1" rot="5400000">
              <a:off x="266040" y="4901760"/>
              <a:ext cx="267120" cy="267120"/>
            </a:xfrm>
            <a:prstGeom prst="curvedConnector5">
              <a:avLst>
                <a:gd name="adj1" fmla="val 2968"/>
                <a:gd name="adj2" fmla="val 49932"/>
                <a:gd name="adj3" fmla="val 2968"/>
              </a:avLst>
            </a:prstGeom>
            <a:ln w="12600">
              <a:solidFill>
                <a:srgbClr val="39536b"/>
              </a:solidFill>
              <a:prstDash val="dash"/>
              <a:miter/>
              <a:tailEnd len="lg" type="stealth" w="lg"/>
            </a:ln>
          </p:spPr>
        </p:cxnSp>
        <p:cxnSp>
          <p:nvCxnSpPr>
            <p:cNvPr id="417" name="AutoShape 24"/>
            <p:cNvCxnSpPr/>
            <p:nvPr/>
          </p:nvCxnSpPr>
          <p:spPr>
            <a:xfrm flipH="1" flipV="1" rot="5400000">
              <a:off x="266040" y="5409720"/>
              <a:ext cx="267120" cy="267120"/>
            </a:xfrm>
            <a:prstGeom prst="curvedConnector5">
              <a:avLst>
                <a:gd name="adj1" fmla="val 49932"/>
                <a:gd name="adj2" fmla="val 49932"/>
                <a:gd name="adj3" fmla="val 49932"/>
              </a:avLst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sp>
          <p:nvSpPr>
            <p:cNvPr id="418" name="Rectangle 25"/>
            <p:cNvSpPr/>
            <p:nvPr/>
          </p:nvSpPr>
          <p:spPr>
            <a:xfrm>
              <a:off x="177840" y="4800600"/>
              <a:ext cx="1892160" cy="109224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419" name="AutoShape 26"/>
            <p:cNvCxnSpPr>
              <a:stCxn id="403" idx="6"/>
              <a:endCxn id="406" idx="3"/>
            </p:cNvCxnSpPr>
            <p:nvPr/>
          </p:nvCxnSpPr>
          <p:spPr>
            <a:xfrm flipV="1">
              <a:off x="4191120" y="5404680"/>
              <a:ext cx="365760" cy="39924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cxnSp>
          <p:nvCxnSpPr>
            <p:cNvPr id="420" name="AutoShape 27"/>
            <p:cNvCxnSpPr>
              <a:stCxn id="400" idx="5"/>
              <a:endCxn id="406" idx="2"/>
            </p:cNvCxnSpPr>
            <p:nvPr/>
          </p:nvCxnSpPr>
          <p:spPr>
            <a:xfrm flipH="1" rot="16200000">
              <a:off x="3801960" y="4666320"/>
              <a:ext cx="259200" cy="77220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transition strategy is guided by the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rategy leads each participant from contact and awareness through to trial 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nior management and change agents are involved first to build sponsorship and support for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/TSP are deployed to innovators and early adopters first, then early majority, and so fort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s backward referen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nimizes resist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transition strategy includes specific transition mechanisms for each affected target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ve and management spons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ing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advant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ves the first wave of early adopters to trial use within a few mont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near-term quantitative results that processes and performance are impr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ar-term results help maintain sponsorship and provide evidence of direct benefit to particip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rategy begins with an initial trial use peri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ing to build understanding, sponsorship,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lot projects to evaluate both the impact of TSP on the organization and the transition appr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period is followed by a series of adoption cyc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cycle repeats the trial use activities on a larger sca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ands the breadth of adop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s for expansion of the change agent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tact and Awaren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ften overlooked, these initial commitment phases cannot be ignored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ir purpose is to generate support for moving to the understanding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se commitment phases will help you to find the innovators and early adopters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s include management sponsors, technical sponsors, and other change ag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External sources add credibility, and may be required to convince managers and other leaders to take the next step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0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1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2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6141600" y="161460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5961240" y="2411280"/>
            <a:ext cx="5457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5555160" y="2728800"/>
            <a:ext cx="8704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5222880" y="2957400"/>
            <a:ext cx="9298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4970880" y="3144960"/>
            <a:ext cx="6739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2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3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4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5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6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7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8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tting Support for TSP/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Innovative technologies like TSP and PSP are radical departures, and are difficult to understand at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Most people will fill in the gaps in their understanding from their existing context, making many incorrect assumptions; others are just resistant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se conditions prevent people from seeing the potential benefits of TSP/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By definition, innovators and early adopters will see the benefits almost immedi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first step is to find the innovators and early adopt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746460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Conta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Awaren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Mechanis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Initially, the primary transition mechanism for contact and awareness is a communications campaign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present TSP/PSP to management spons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bring in experts/consult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hold technical foru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From these sessions, early adopters will emer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Later, as other adopter types are needed, internal references become a key transition mechanis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people-to-peop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intrane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Conta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Awaren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nderstand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17360" y="1476000"/>
            <a:ext cx="362556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urpose of the understanding phase is to prepare for trial use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plan for and conduct TSP/PSP pilot projects, all participants need train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You will also need to find more innovators and early adopters for pilot projec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Without adequate preparation, participants will not be able to plan for trial use or apply TSP/PSP in practic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9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0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3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6222600" y="163044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5961240" y="2411280"/>
            <a:ext cx="5457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5227560" y="2728800"/>
            <a:ext cx="1222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5461200" y="2992320"/>
            <a:ext cx="6663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4957560" y="319572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2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3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4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5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6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7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familiar with the SEI course sequence that supports the TSP/PSP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produce a timeline for an introduction sequence based on the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make a business case for TSP and PSP, based on a cost/benefit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-designed training is the key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ining support for tria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implementation during tria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/PSP training sequence was designed to build cascading support and skills for trial use on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minars and formal training courses ar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rmal courses emphasize skill-building, using constructivist learning techniq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uthentic learning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l-world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by doing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Sequenc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04920" y="1400040"/>
          <a:ext cx="8454960" cy="4945320"/>
        </p:xfrm>
        <a:graphic>
          <a:graphicData uri="http://schemas.openxmlformats.org/drawingml/2006/table">
            <a:tbl>
              <a:tblPr/>
              <a:tblGrid>
                <a:gridCol w="1841400"/>
                <a:gridCol w="2770200"/>
                <a:gridCol w="3843360"/>
              </a:tblGrid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Participa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ecutives and senior manageme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Executive Strategy Seminar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day + optional ½ day strategic planning session.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iddle and first-line manag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eading Development Team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5296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oftware develop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(optional)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95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</a:t>
                      </a: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</a:t>
                      </a: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 Advanced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27504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ther team memb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Team Membe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roduction to Personal Proces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TSP Team Member Training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structo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nstructo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</a:t>
                      </a: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ach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Coach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</a:t>
                      </a: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ange Agent 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 are needed to train, coach, and mentor managers, engineers, an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hree possible approach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. Use external expertise (SEI-authorized instructor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. Train change ag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. Start with external support while training change ag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recommend the third solu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nefits of outside expert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s internal change ag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s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ing for trial use on the first pilot projects involves 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e-day seminar for execu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-day training course for first- and second-line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 – 2 weeks of PSP training for software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 take the software engineers training and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 training course (one wee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coach training course (one wee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Considera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gineers get more benefit from the training w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s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equate time is provi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-line managers treat the course like project work and track completion of cours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are more likely to sustain sponsorship w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 status/progress reports are ma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are presented and the potential benefit to the business is establish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Considera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SP team members must complete a PSP or TSP training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luency in a programming language is a prerequisite for the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SP Team Member Training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a 2 ½ day course for teams that include members who don’t write software.  Examples includ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rdware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engineers must take the standard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ial U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urpose of the trial use phase is to evaluate both the TSP/PSP and the transition strateg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ial use for TSP/PSP involves conducting three to five pilot projects, gathering data, analyzing it, and evaluating the resul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uccess factors for TSP/PSP pilot projects include proper management discipline and the effective use of team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0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1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6157440" y="159876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7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5708520" y="2367000"/>
            <a:ext cx="7560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5532120" y="2728800"/>
            <a:ext cx="8704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5461200" y="2992320"/>
            <a:ext cx="6663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1" name="Rectangle 16"/>
          <p:cNvSpPr/>
          <p:nvPr/>
        </p:nvSpPr>
        <p:spPr>
          <a:xfrm>
            <a:off x="4957560" y="319572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2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3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4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5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6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7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8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9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rategic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pilot projec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baseline for measuring improvem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n initial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 long-term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long-term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long-term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ablish Success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succes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truly successful outcome.  Be specif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cent defect fre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rvice and support cost improv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satisfaction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accel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- -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blish these goals and consider them in review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volve Lin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involve line management in objective set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team can only initiate and support process changes but cannot make them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ly people who can change the behavior of development groups are the group’s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rollout, ask the line managers for trial use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trial use goals in line-management measurement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transition bas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/PSP transi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sts and benefi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Champ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a trial use champion:  Without one, little will get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hampion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the trial us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gotiating this plan with the product manag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the plan with senior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and guiding the trial use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ing the dedicated trial us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45720" y="890280"/>
            <a:ext cx="7481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ing the Pilot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wo to three TSP prototype proj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plans to meet the prototype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he pilot TSP teams and their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h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and evaluate and review th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eded adjus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first TSP pilot projects to build experienced coaching and further adoption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llocate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ment takes work. Trained and qualified professional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 the courses, coach the teams, draft policies, and provide guidance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help in solv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 the trial use and adop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, evaluate, and report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team must have sufficient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coaching-staff target of 2% to 3% of the professional popul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e Particip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66960" y="166968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ers are reluctant to participate in experimental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that management has selected the TSP as a new direction for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opportunitie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SP experience for the entire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benchmark for futu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a new and exciting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valuable skills and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Pilot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66960" y="170604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ck 2 to 3 medium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 to 12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 to 12 month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-intensive new development or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esentative of the organization’s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ortant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s with members and managers who are willing to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group relationshi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a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al boundari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confli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ploying TSP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17360" y="1709640"/>
            <a:ext cx="3632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introduced into an organization on a project-by-project or team-by-team basi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more than a training program, the new skills must be used in a team setting soon after training end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reat the deployment like a project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et goal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ssign responsibiliti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volve line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lan and track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773600" y="1612800"/>
          <a:ext cx="4151160" cy="4488120"/>
        </p:xfrm>
        <a:graphic>
          <a:graphicData uri="http://schemas.openxmlformats.org/drawingml/2006/table">
            <a:tbl>
              <a:tblPr/>
              <a:tblGrid>
                <a:gridCol w="380880"/>
                <a:gridCol w="3770280"/>
              </a:tblGrid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TSP Introduction Step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art by identifying external or internal resources to lead the effort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f internal resources are selected, send them to SEI training to become authorized instructors and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op management, then select two or three initi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he selected teams and their managers then launch the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onitor the projects and make adjustments as needed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pand the scope, selecting addition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reate or expand the pool of available SEI-authorized instructors and/or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peat starting at step 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option and Institutional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adoption phase expands the use of a new technology beyond the pilot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itutionalization expands use to include the entire organiz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806720" y="3994200"/>
            <a:ext cx="3624120" cy="23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doption can begin as soon as the organization is satisfied with pilot project results. It isn’t necessary to wait until the projects are complet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1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2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3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4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6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5537520" y="1598760"/>
            <a:ext cx="1515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5774040" y="2052720"/>
            <a:ext cx="78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5959440" y="2411280"/>
            <a:ext cx="5212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5556240" y="2728800"/>
            <a:ext cx="8096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5492520" y="3021120"/>
            <a:ext cx="6296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4982040" y="320688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3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4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5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6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7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8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9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0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ale-Up Appro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oader TSP adoption should repeat the pilot project steps across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each location’s goals and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project by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 experience b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anagers and executives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rojects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eat each new introduction as a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SP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just plans and methods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Adoption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an adoption leadershi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required skills, disciplines, and constituenc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re of full-tim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 TSP launch of the scale-up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res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participate in opening and closing meeting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 and review like an engineering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45720" y="890280"/>
            <a:ext cx="7481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Institutionalization of the TSP - 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ustain long-term TSP adoption, and use, incorporate the TSP adoption goals into the organization’s business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and recognition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alary and promotion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reer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nu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potential management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Implement organizational policies and procedures that support the routine use of TSP/PSP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chnology Transition Bas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resist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ects of resistance to change can be minimized if it is understood, managed, and planned f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strategy for introducing PSP and TSP is based on change management concepts that dramatically reduce ri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agent for change, you must understand and apply these concepts, or risk fail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61480" y="890280"/>
            <a:ext cx="75661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Institutionalization of the TSP - 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04400" y="1714320"/>
            <a:ext cx="74106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ith any disciplined activity, the TSP needs continuing reinforcement fro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gular quarterly managemen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jec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key process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review benchmark comparis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, recognize, and reward superior individual, team, and manage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ue to provide teams with qualified TSP coach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st/Benefit Analysi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costs of introducing TSP and P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bor costs incurred during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bor costs for the change agent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sts associated with external consultants and training course fe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benefits of introducing TSP and P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d softwar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uction in test and failure co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dictable development costs and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 Cos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17360" y="1631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incipal introduction costs for the example a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 executives * 1 day * $2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2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5 managers * 3 days * $1,5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112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0 engineers * 14 days * $1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1,96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 change agents * 24 days * $1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96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2,188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 * 2.5 yrs. * 200 days/yr. * $1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2,00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ants and course fe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25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ructor training for 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3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coach  training for 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          $2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30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CO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4,488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ial Use Introduction Cos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17360" y="1631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introduction costs for the first two pilot projects a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 executives * 1 day * $2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2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5 managers * 3 days * $1,5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112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8 engineers * 14 days * $1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252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 change agents * 24 days * $1,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48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432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 * 1 yrs. * 200 days/yr. * $1000/da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40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ants and course fe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$25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ructor training for 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15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597240" indent="-195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coach  training for 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 $10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275,0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0880" indent="-1659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CO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$1,107,5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owerful cost/benefit analysis can be made based solely on the rework cost reduction due to improved product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 of benefits is based on published data from TSP projects in three organiz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e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ll AF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rady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/PSP Resul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017360" y="1631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.44 times reduction in post-release defect dens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4% reduction in system test dur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ill AF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ystem test time reduced from 22% to 2.7% of schedu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28 defects/KLOC in system test for build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056 defects/KLOC in system test for build 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radyn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 engineers produced 89.9KLOC in 17 months, a rate of 45,328 KLOC per yea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2 defects/KLOC in integration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4 defects/KLOC in system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02 defects/KLOC in acceptance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67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fore TSP/PSP, 20 defects/KLOC +/- 1 defect/KLOC for all test phases combin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ssump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:  A 10-person team produces 40 KLOC/yea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defect density before is 17.5 defects/KLO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st phase finds about half the defects found in the previous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ensity is improved 10 tim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Before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ft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tegration Test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10.0/KLOC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1.00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ystem Test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5.0/KLOC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.50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cceptance Test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2.5/KLOC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.25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defects average 12 hours each to find and fix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ial Use Saving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ume that the TSP/PSP pilot projects are each 12 months lo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wo teams will produce 80KLOC, with 1260 fewer defects found during tes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1.5 days to fix, this is a savings of 1890 day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$1000/day, this is a savings of $1,890,000 per yea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597" name="Picture 4" descr=""/>
          <p:cNvPicPr/>
          <p:nvPr/>
        </p:nvPicPr>
        <p:blipFill>
          <a:blip r:embed="rId1"/>
          <a:stretch/>
        </p:blipFill>
        <p:spPr>
          <a:xfrm>
            <a:off x="669960" y="3424320"/>
            <a:ext cx="79167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st/Benefi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two pilot projec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1,107,5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ll implementati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4,488,5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nefi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two pilot projects after 1 yea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1,890,0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two projects after 2.5 yea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4,725,0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end of full implementation*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$6,615,0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500" spc="-1" strike="noStrike">
                <a:solidFill>
                  <a:srgbClr val="39536b"/>
                </a:solidFill>
                <a:latin typeface="Arial"/>
              </a:rPr>
              <a:t>*Assumes that after 2.5 years, seven projects have been started and completed.</a:t>
            </a: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Strategy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017360" y="16318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executive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support and commit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the pilot introductio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engineers and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engineers by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ll managers in the management cha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SP teams immediately after PSP trai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transitio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PSP instructors and coa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plan for each product are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plan for new hi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echnology transitio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ertion of a new technology into an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s introduction, adoption, deployment, and roll-out (broad, institutional u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new technology is considered to b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nstitutionaliz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when it is used routinely throughout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Change managemen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the set of activities related to managing the human elements in a technology transi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Keys to Suc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 smal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itially, use PSP and TSP on a couple of pilot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pand as the organization develops a pool of experienced engineers and manag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 internal capability to train individuals and launch tea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 a network of sponsorship and suppo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prepared to deal with resistance to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actice what you preach and plan the introduction sequence!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cute and measure; it is possible to obtain results on pilot projects within a relatively shor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017360" y="1477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ing PSP and TSP into an organization is a major effort that must follow a successful transition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strategy must be planned and orchestrated so that each step builds support and gains accept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ite of PSP/TSP courses is used to develop the necessary skills and launch effectiv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strategy starts small and expands based on the results of those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 order to manage change the organization must: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reate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awareness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 of why the change is happening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Build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desire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 to support and participate in the chang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rovide the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knowledge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 needed to chang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Demonstrate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ability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 to implement new skills and behavior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rovide </a:t>
            </a:r>
            <a:r>
              <a:rPr b="1" lang="en-US" sz="1900" spc="-1" strike="noStrike">
                <a:solidFill>
                  <a:srgbClr val="39536b"/>
                </a:solidFill>
                <a:latin typeface="Arial"/>
              </a:rPr>
              <a:t>reinforcing </a:t>
            </a: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environment to sustain the chang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By managing change, the organization: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creases the probability of succes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voids losing valued employees and minimizes short-term productivity los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4824360" y="625968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Times New Roman"/>
                <a:ea typeface="Times New Roman"/>
              </a:rPr>
              <a:t>Source: Change Management Toolkit Using Prosci’s ADKAR Model, 200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What are the potential impacts of not managing change?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rs may be unwilling to assign adequate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resourc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o support the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rs may create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egative messag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about the change to their peers and subordinat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loyees may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lose intere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in their work resulting in productivity losses and negative impacts with custom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loyees may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leav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he organiz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Absenteeism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may incre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nforeseen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obstacl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o the change seemingly appear from nowher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Fund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is not made available to implement or sustain the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sudden shift in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prioriti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is observed with less emphasis on the current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4824360" y="625968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Times New Roman"/>
                <a:ea typeface="Times New Roman"/>
              </a:rPr>
              <a:t>Source: Change Management Toolkit Using Prosci’s ADKAR Model, 200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mitment to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nsitioning technology involves moving the organization through a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individual in the organization must step through this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 each have a different perspective of the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individuals are more likely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s will resist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the technology change requires a structured approach over time to deal with the organizational and the individual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6Z</dcterms:modified>
  <cp:revision>206</cp:revision>
  <dc:subject/>
  <dc:title>No Slide Title</dc:title>
</cp:coreProperties>
</file>